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164B2-590B-47E6-AF34-B851EA4720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75F17-12C4-434E-B8D3-328605C09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1D66D-1877-41D5-B8F5-FFF90AD30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2CDE0-FDE0-46CA-A5CD-43E4A88D1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8262B-3C39-48A5-ADEA-4333041CD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FA011-F383-47BD-83E2-2F0CA9507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4C8C5-FE85-4458-8E4D-F126F96A4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876CB-3976-4E36-B0B6-5BF66FEED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4A38D-BE52-482E-A232-420CE7864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F74AE-E94C-4AE1-BAFC-486FCCF52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2935D-D8AD-43B3-A1E7-02E25AFDE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CFECD-B6F7-417F-AB79-E9B764B1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14736-4166-47F3-8B76-D6945C379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54435-F945-470B-91FC-F80D346F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DF978-5962-4161-AD37-0395AC777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645C1-D815-4609-B014-4445C1595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2D1FD-4F74-43E5-B12B-590B53175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1296D-D4A8-49AF-8AE0-D59EADC74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E7716-4022-4FD8-83FB-73EBAB67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728FF-8492-4F11-A1DE-3411BBB91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B7BAA-23EF-4D80-85A2-A121B7747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4700D-6DCA-4E28-BBD5-E8DFDE0D0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3DA88-259E-4C83-BCA9-212F9469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D5FCB-1512-467D-9628-72B1E249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85EA6-3FFB-402E-802C-593AFD38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F3373-3599-4985-8D3A-94CDB0FDD5B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EFCAB-9E4D-4B95-AAD8-4220101873E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99640" y="4941720"/>
            <a:ext cx="75596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340000" y="1916280"/>
            <a:ext cx="4824360" cy="28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3200" spc="-1" strike="noStrike">
                <a:solidFill>
                  <a:srgbClr val="e5e5ff"/>
                </a:solidFill>
                <a:latin typeface="Garamond"/>
              </a:rPr>
              <a:t>                    </a:t>
            </a: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2004 Safety Repor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755964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9 countries supplied da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5,332,756 skydives were made b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493,250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53 people were killed skydiv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100,618 jumps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9,307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              </a:t>
            </a: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53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988640"/>
            <a:ext cx="8218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8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15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1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1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4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64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47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1692360" cy="10396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 ‘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Other’ Fatalities (47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8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9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uicid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during CF opening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ow cutaway &amp; Line twists on reserv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anopy collision during CF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Jumper unconscious before AAD fir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Hard landing under two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Jumper caught cutaway canopy which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ntangled with jumper’s own mai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Total 47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"/>
          <p:cNvSpPr/>
          <p:nvPr/>
        </p:nvSpPr>
        <p:spPr>
          <a:xfrm>
            <a:off x="971640" y="54936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Fatalities – Largest Group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79311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2% (17) Landing Erro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7% ( 9) Fast canop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3%  (7) Equipment proble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IE" sz="2800" spc="-1" strike="noStrike">
                <a:solidFill>
                  <a:srgbClr val="e5e5ff"/>
                </a:solidFill>
                <a:latin typeface="Garamond"/>
              </a:rPr>
              <a:t>                    </a:t>
            </a:r>
            <a:r>
              <a:rPr b="1" i="1" lang="en-IE" sz="4000" spc="-1" strike="noStrike">
                <a:solidFill>
                  <a:srgbClr val="e5e5ff"/>
                </a:solidFill>
                <a:latin typeface="Arial"/>
              </a:rPr>
              <a:t>Some Significant Figur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0024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66% of the 53 fatalities (18 were discounted for this statistic) occurred with the parachutist having at least one good parachute on his/her bac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1% - 27 of 53 fatalities, occurred after the successful deployment of the main parachut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1% - 6 of the 53 fatalities might have been avoided by AAD us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79% - 42 of the 53 fatalities, appear to have been caused by human erro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3 of the 53 Fatalities were First Jump Stud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   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Some Continuing Trend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7920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creased use of AAD shows in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Emphasis on good and thorough initial and ongoing training is probably the only way in which the big numbers of fatalities, especially from canopy handling/landing, may be reduc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1916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4 AAD Report, and Power Point presentations for both reports, has been sent by e-mail to all respondents and to all other countries for which we have e-mail addresses (72 in total)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e CDs have the following –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AAD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Visiting Jumper Requirements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Chart 2006 – with details of AADs on the market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Reserve Life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tudent Canopy Loading Guid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5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5 Not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5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16556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6-01-16T20:58:31Z</dcterms:modified>
  <cp:revision>33</cp:revision>
  <dc:subject/>
  <dc:title>SAFETY &amp; TRAINING FORUM 25 January 2003</dc:title>
</cp:coreProperties>
</file>