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B25F-8214-47F8-8531-42DA4C9D4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07FB-BDDB-4C12-B371-463FCA365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2E46-0D93-46F2-8611-B7E26E123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582D-863B-4BEA-A7B2-159F841D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3946-B84A-4AE9-9832-F8CC8C2FE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FF5F-A845-4AA0-9888-489827778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8963-E206-4C25-84A1-447445AE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8636-7D97-46E5-BFF5-93E58678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345A-0930-4077-95FE-46A26359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BEA1-3DC3-4011-B0F0-70FED091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7A00-F814-4344-A202-8F057800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6835-31D8-44D4-A414-BAA7AD38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A79D-8E1F-4CF2-8D9C-EBB259EF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3D73-125E-49B4-B155-DB133CF7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3F4B-6D2F-4612-B8BB-0C849BEA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20BA-8EEF-4552-8F17-E93AA69A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A99B-11CE-4A41-AAF3-F6AC4A1B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EB4D-50D7-4D93-910A-97216FAB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4AEC-08F6-4B03-8544-62D8E0E0C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65325-9DB2-4637-BEFA-43641748F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C633A-155A-49AB-B707-6782CEAF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0DE9E-CBBD-40A0-89FA-845AA807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F36FC-A29B-48D4-AD2C-1235AE59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A3ED0-C446-44D6-A5C9-FF558276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4FF4-A85E-4768-9F12-681F48CB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268E7-1B0F-4BA3-952B-3AE8A2C2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E3642-29FD-40D4-891E-86DD75DA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E4394-ADFE-4960-AD3C-BF3B1EF1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206B6-80C9-465E-919D-B0791A95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509FF-5A9B-49B5-A354-25619B9E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39005-31D2-4FB6-8E5E-A5EAF794A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623A3-D0EE-41FF-A31E-2D1A41494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A6C83-8FBD-4B53-878A-E583E64B2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C19E5-CFA3-491D-890A-E317AC02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D1FEC-8117-4828-A4D9-E0B35E52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C285-E961-4E71-86FB-B2E6B984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413C0-9BC7-43FC-992B-4794BB94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338DE-B39A-4FC3-B1A5-CD1BA0C5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B3CD7-48C8-4D6E-89E8-21B8D943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5B2DC-7D24-49BE-B258-56698553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66694-9122-4909-9C78-64685FF2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D877C-7633-4C68-8294-55714591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F5C58-5B02-4F56-85C4-5C5198F6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835D6-681A-402B-9FE2-14680D2C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FECE2-590B-4AD5-B207-38A5993A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5B3A-035F-4037-A602-F6AAF98D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C0D4-A690-46C6-A099-DD999AEC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CE88-4611-48B8-B823-AD7BCA79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DA63-7016-42A2-BD4F-9EC69E8C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5BCD-4222-4D8F-AF85-D2CA24D6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D9B2-1BD1-4509-836E-7EBCFC6B5C4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1210-094A-4ABE-B3E2-D724F99DB14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98EB-E5B1-4D89-AD79-C967097FFE3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0CE7-F931-480E-962F-BE087C218DD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Form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Notes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3) issued in 2015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4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5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7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4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237,725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14,867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hree Tandem fatalities in 2014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01,20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42,415 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(1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2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1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2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2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6983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 bridle entanglement with camer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lmet after unstable reserve activat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ow radical turn, high impact with water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using lung damage and death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stability, no Main deployment, AAD activate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, freebag caught on jumper, insuffici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ight for reserve deployment, reserve lin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rapped under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jumper’s arm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1   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25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6 - 19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s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nd Canopy Collision – each a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4 – 13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3 – 10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39% of total fatalities, 3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0 (65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1 (35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6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3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4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39% of 3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640"/>
            <a:ext cx="8229600" cy="33415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75,020 Solo jumps – 1,162,7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3 ; Solo Fatalities 28 (3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6-01-14T20:42:49Z</dcterms:modified>
  <cp:revision>105</cp:revision>
  <dc:subject/>
  <dc:title>SAFETY &amp; TRAINING FORUM 25 January 2003</dc:title>
</cp:coreProperties>
</file>