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2574E-AB49-4759-B24D-83671B7B5C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3A49-EF63-42C7-BAB0-5EC4BA120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04E5-1A0A-45CC-89D9-1DEFBAC4D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584A-AD02-4276-A807-B3239E508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178B-5D63-49F6-AA1F-DF0EC5C28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D7D92E-BBCD-4225-A305-54AB24F92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34C855-CC50-4A03-98E3-E8E0B04B9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72ABED-E6ED-46B6-9948-E7C37C87A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F720EF-EC5E-46B2-8558-3043E9B9F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509FD4-FEAA-42CA-A8B3-2A9616B60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91221B-508D-479D-9DAA-7EDF2195B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1A1707-31FD-4C1C-8740-64D2D34D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2A67-D4A7-45C6-ABDF-373F38C08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711526-D233-4887-B98E-4BD840EC5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E59BC5-35C5-4451-9D8F-D5F01421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497056-BA2D-4717-AFBE-69BA93D67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5D6DE5-9C1B-4A42-8D29-9CC0E2575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C85FA5-6ECA-4352-BED2-E82A52FA7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FF61-7B47-4DF9-ADCC-ED329BEC7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4FD8-CB89-4217-8F5E-935CABDDB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3BCC-45BD-4C5E-9265-B08C88C52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A270-8E58-48D9-ACF3-FDF0FD533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46E7-D3C7-455B-94BC-DB4F423F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BE0B-0E65-4A61-97EE-F0C6B8B5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8175-67BF-45CF-ABEC-73C28D65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9058E-A838-4250-A01A-139CB94134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99F09-DB7F-4D73-860E-FA05902899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TECHNICAL &amp; SAFETY COMMITTE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559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2002 Safety Repor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 33 responding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3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5,769,010 skydives were made b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357,155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9,028 jum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,893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400" spc="-1" strike="noStrike">
                <a:solidFill>
                  <a:srgbClr val="ffffff"/>
                </a:solidFill>
                <a:latin typeface="Arial"/>
              </a:rPr>
              <a:t>73 Fataliti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5 Studen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29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0-25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4 Interm.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25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44 Exper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46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Cutaway/No or low reserve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    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    5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Other ‘ Fatalities (55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8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Other Landing Error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Canopy Collisio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Jumper walking into Propellor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Jumpers striking aircraft in air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Aircraft crash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Unknow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Fatalities – Largest Group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36640"/>
            <a:ext cx="82296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3%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9% Other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% No or Low Activation of Main 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ffffff"/>
                </a:solidFill>
                <a:latin typeface="Arial"/>
              </a:rPr>
              <a:t>Some Significant Figur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94% of 65 fatalities (8 were discount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60% of 65 fatalities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3% of fatalities might have been avoided by AAD u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90% of fatalities would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8 of the 73 Fatalities were First Jump Stud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creased use of A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Big movement towards Tandem jump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DISTRIBUTION OF REP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Report, along with 2002 AAD Report, has been sent by e-mail to all respondents and to all other countries for which we have e-mail addresses.  Hard copies and CDs are now available for delega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Some Tren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4-12-21T22:32:57Z</dcterms:modified>
  <cp:revision>14</cp:revision>
  <dc:subject/>
  <dc:title>SAFETY &amp; TRAINING FORUM 25 January 2003</dc:title>
</cp:coreProperties>
</file>