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94F6-7528-451A-9F59-71FC422EA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BFE4-89A3-4955-A26A-F3023DDCF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110C-9597-4880-AFC2-CFA7C2553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2A16-60BC-4B27-887F-1D1E0C70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A783-0E09-4C6A-837A-E4F291321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C811-9979-42B6-A495-74B1B3ADF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16B2-80AF-412B-AE47-CC2E6A780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A0E5-F03F-4DE3-9806-BC383B09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0993-D5F0-4B6B-8721-2180E093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B0DF-7409-4C9A-8FC4-E3121209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1979-9BB6-47BA-9BAB-820318C5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A98A-1BA0-4E75-AF73-A1324F47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5750-3D96-4E68-9632-5CC32028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3405-B5FB-4550-A518-2A78BED2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99A6-AEBB-4E7B-80E7-97B5045E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AEAB-48ED-4007-A981-19EC382A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C455-107E-4C9B-BF5C-A659759C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85E6-23C0-4232-81E4-369A00ABA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CD6F-230A-48DC-A20B-E0A7EA988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A3C9-7C61-4576-8019-FF11A87A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C455-30DE-4A19-8C66-2A310C35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C29A-70C7-4A13-8298-E50B5E3D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FD21-7CBE-47F9-96A5-B60A3207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16D4-BC70-4BCB-A281-6FA934CF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CE53-E2B6-4483-BCE4-96562A82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1436-4C7C-4040-8C84-7A228949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FAF1-B7D2-4183-B60F-829221FD3CCE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F97D-2B1C-4470-B0C6-3242FF2B30E2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Calibri"/>
              </a:rPr>
              <a:t>Thanks – and Report Distribu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8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9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8 are requested to do so for 2019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2 countries responded, from a possible approximately 85, a response rate of 49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similar to previous years and has been about this rate for the 32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8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2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364,651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27,205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8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44,651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709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44 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Studen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(9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3 Intermediate     (3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(6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7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Equipment Entanglemen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Spinning main, cutaway &amp; reserve malfunction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AAD Fire &amp; Reserve Malfunct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Jumper spun on back, Reserve handle pulled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Reserve did not deplo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Medical Issue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- 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Entanglemen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27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4 (55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15(3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0 (68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8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6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27% of 44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56,227Solo jumps – 1,527,2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43 (44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2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0-01-20T16:21:36Z</dcterms:modified>
  <cp:revision>139</cp:revision>
  <dc:subject/>
  <dc:title>SAFETY &amp; TRAINING FORUM 25 January 2003</dc:title>
</cp:coreProperties>
</file>