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0.jpeg" ContentType="image/jpeg"/>
  <Override PartName="/ppt/media/image5.png" ContentType="image/png"/>
  <Override PartName="/ppt/media/image16.jpeg" ContentType="image/jpeg"/>
  <Override PartName="/ppt/media/image15.jpeg" ContentType="image/jpe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72C1D-255B-4D93-920E-7E0724026E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363B7-8B4E-4E82-8651-6DABD4FCBE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BCC82-9451-49F6-804B-3D48CD644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AFC86-146A-4E9A-B52B-0A182E142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0A055-4B20-4778-9209-44B0F46A0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45122-C3DA-44FD-8C7E-54686F06C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A2A9A-FEFA-4DC6-8261-E92C76275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2EE98-FF87-4CD3-9B62-60C397091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024F5-1D81-4127-BE1E-4055C6D08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95A5A-0F5C-482F-9FAF-9336FD4D6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3BAB6-57A7-43CA-8867-63C94CD39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DF64E-817C-44A1-BFC4-5875367DD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49CBE-8737-4AA4-B138-68B2891FA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C087E-434E-4327-BF50-4D82A93A9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78017-E2AB-4911-9316-D2ED9A77E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546CC-5533-46AE-80BB-C2471448A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E2217-A79C-481C-B269-89EB32814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D122E-6969-4307-ADAA-5F4CC27BA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7A087-A7E4-44B3-8359-8BAF9DE76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DC9F34-05E9-417D-B80B-0BC3FC832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9BB9A1-CDC6-407A-9D5E-0A3143C79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2FCF87-556D-4752-9970-10115DF2E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6E92FC-1B0A-4E99-B376-55796D750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5BBF1A-A7B4-4FDA-92BF-290B197C6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CBA0B-790F-42AB-AC46-E28F26992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DE6507-3838-4410-B4E7-F0DD68D61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400F44-63B6-479E-BEC9-B32735CBA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EA9A95-A78A-4AB1-BA74-548B9E0C0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B67BD4-9439-49F9-B7B8-E33CF1AEF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A2C9DF-5F64-4335-8436-E288B8A92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4986DF-392C-40DD-88F6-AFE24EA9B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534910-7DE9-4670-A01D-59FD54912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8F7DDC-905E-44ED-8744-53B07493F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7321F0-5A1B-4A22-9943-08473CEC9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2DCD19-81E9-4920-A550-D2F064BCC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DF05B-4BA4-4A48-98D9-E9A637FCA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090203-DC15-4831-B087-28A4EBE8D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429690-0945-4629-AEE8-82C3FADDB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D4DD86-424F-4662-9439-2B1577BF3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E76EFF-9FF2-476B-84E8-2B983FF4B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0E5891-74BE-4873-A238-BCE7BC383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3ACEF3-721E-43E3-B2B3-FEAA48B18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D05CD8-DDFC-4F92-A755-5C743E33A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908286-B53A-4668-9136-23111834A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594EE1-670D-49AC-9A75-82A006F61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22F9D-9B57-4840-BDAB-743EF832D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E5CB8-4FD9-4E87-BE53-DCF25E4B7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F6990-6B69-4BEA-A753-D0B744EC0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10697-DC3F-49EC-B66F-761AD2B1E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87ABB-A48F-4B27-B91B-4ED11B07E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18061-6F85-405B-9814-733DC93E0366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20231-A85C-4114-BBD6-D62178895CBC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46730-8E57-4913-82C4-5E3E6C1AFD37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2FB57-1991-4AFE-893C-77A989C40B7C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Rectangle 2" descr=""/>
          <p:cNvPicPr/>
          <p:nvPr/>
        </p:nvPicPr>
        <p:blipFill>
          <a:blip r:embed="rId1"/>
          <a:stretch/>
        </p:blipFill>
        <p:spPr>
          <a:xfrm>
            <a:off x="822240" y="1841400"/>
            <a:ext cx="8407440" cy="195588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2484000" y="3499920"/>
            <a:ext cx="6480360" cy="15843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600" spc="-1" strike="noStrike">
                <a:solidFill>
                  <a:srgbClr val="ffffff"/>
                </a:solidFill>
                <a:latin typeface="Arial Unicode MS"/>
              </a:rPr>
              <a:t>International Parachuting Commission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600" spc="-1" strike="noStrike">
                <a:solidFill>
                  <a:srgbClr val="ffffff"/>
                </a:solidFill>
                <a:latin typeface="Arial Unicode MS"/>
              </a:rPr>
              <a:t>FAI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4" name="Text Box 4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logo_ipc_01_trait copie"/>
          <p:cNvPicPr/>
          <p:nvPr/>
        </p:nvPicPr>
        <p:blipFill>
          <a:blip r:embed="rId2"/>
          <a:stretch/>
        </p:blipFill>
        <p:spPr>
          <a:xfrm>
            <a:off x="6588000" y="476280"/>
            <a:ext cx="1729080" cy="107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8" descr="logo_ipc_01_trait copie"/>
          <p:cNvPicPr/>
          <p:nvPr/>
        </p:nvPicPr>
        <p:blipFill>
          <a:blip r:embed="rId1"/>
          <a:stretch/>
        </p:blipFill>
        <p:spPr>
          <a:xfrm>
            <a:off x="7451640" y="549360"/>
            <a:ext cx="1230480" cy="86364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 txBox="1"/>
          <p:nvPr/>
        </p:nvSpPr>
        <p:spPr>
          <a:xfrm>
            <a:off x="899640" y="1557360"/>
            <a:ext cx="75438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is Report, along with the Power Point presentation, and material listed below, has been sent by e-mail to all respondents and to all other countries for which the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&amp;S Committee has e-mail addresses, and by e-mail to all IPC Delegates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2016 Safety Survey Report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2016 Safety Survey Report Power Point Presentation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Safety Survey 2017 Form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Safety Survey 2017 Notes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Information Notice (1) issued in 2017 by the IPC’s Technical &amp; Safety Committee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Parachuting Aircraft Incidents/Accidents Report 2017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PPEAL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ose countries who did not report for 2016 are requested to make a special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effort to do so for 2017.  The compilation of data is to the benefit of the country gathering same,  and to the worldwide skydiving community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Text Box 10"/>
          <p:cNvSpPr/>
          <p:nvPr/>
        </p:nvSpPr>
        <p:spPr>
          <a:xfrm>
            <a:off x="1476360" y="76500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0000"/>
                </a:solidFill>
                <a:latin typeface="Tahoma"/>
              </a:rPr>
              <a:t>Distribution of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Title 1" descr=""/>
          <p:cNvPicPr/>
          <p:nvPr/>
        </p:nvPicPr>
        <p:blipFill>
          <a:blip r:embed="rId1"/>
          <a:stretch/>
        </p:blipFill>
        <p:spPr>
          <a:xfrm>
            <a:off x="450720" y="463680"/>
            <a:ext cx="8686800" cy="115704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468000" y="2133720"/>
            <a:ext cx="8280360" cy="345600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40 countries responded, from a possible approximately 85, a response rate of 47%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The response rate was similar to previous years and has been about this rate for the 29 years of the Safety Survey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Once again countries are encouraged to put in place systems for the collection of the type of data in this report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Such data is invaluable  - for use by parachuting organisations, dropzones, those involved in the areas of technical and safety matters, and when dealing with authorities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71640" y="479520"/>
            <a:ext cx="5905440" cy="699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300" spc="-1" strike="noStrike">
                <a:solidFill>
                  <a:srgbClr val="04617b"/>
                </a:solidFill>
                <a:latin typeface="Arial Unicode MS"/>
              </a:rPr>
              <a:t>2016 Safety Report</a:t>
            </a:r>
            <a:endParaRPr b="0" lang="en-US" sz="43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86920" y="1699920"/>
            <a:ext cx="692964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IE" sz="3200" spc="-1" strike="noStrike">
                <a:solidFill>
                  <a:srgbClr val="000000"/>
                </a:solidFill>
                <a:latin typeface="Arial"/>
                <a:ea typeface="Arial"/>
              </a:rPr>
              <a:t>40 countries supplied data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7,523,610 skydives were made by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1,375,159 jumper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39 people were killed skydiving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(these figures include Tandems; there were two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andem fatalitiy in 2016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1 Fatality per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192,913 Jumps   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35,260 Jumpe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0" name="Picture 4" descr="logo_ipc_01_trait copie"/>
          <p:cNvPicPr/>
          <p:nvPr/>
        </p:nvPicPr>
        <p:blipFill>
          <a:blip r:embed="rId1"/>
          <a:stretch/>
        </p:blipFill>
        <p:spPr>
          <a:xfrm>
            <a:off x="7164360" y="404640"/>
            <a:ext cx="1513080" cy="114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4608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04617b"/>
                </a:solidFill>
                <a:latin typeface="Arial Unicode MS"/>
              </a:rPr>
              <a:t>39 Fatalities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79912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5 Students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(13%)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0-25 Freefal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7 Intermediate   (18%)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26-250 Freefal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27 Experts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(69%)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251 + Freefal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60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Cutaway &amp; Low/No Reserve pull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2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No pull/low pull on main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1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Others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36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 39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3" name="Picture 7" descr="logo_ipc_01_trait copie"/>
          <p:cNvPicPr/>
          <p:nvPr/>
        </p:nvPicPr>
        <p:blipFill>
          <a:blip r:embed="rId1"/>
          <a:stretch/>
        </p:blipFill>
        <p:spPr>
          <a:xfrm>
            <a:off x="6732720" y="620640"/>
            <a:ext cx="1692000" cy="104004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6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64800" y="430200"/>
            <a:ext cx="544356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4617b"/>
                </a:solidFill>
                <a:latin typeface="Arial Unicode MS"/>
              </a:rPr>
              <a:t>‘</a:t>
            </a:r>
            <a:r>
              <a:rPr b="1" lang="en-IE" sz="3600" spc="-1" strike="noStrike">
                <a:solidFill>
                  <a:srgbClr val="04617b"/>
                </a:solidFill>
                <a:latin typeface="Arial Unicode MS"/>
              </a:rPr>
              <a:t>Other’ Fatalities (36)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99640" y="1628280"/>
            <a:ext cx="74170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Landing Error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Intentional Fast Landing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Freefall Collision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Equipment Related Issue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Incorrect Emergency Procedure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Tandem Fatalitie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Medical Issue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Camera Entanglement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Landing in Heavy Turbulence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Drowning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Aircraft Strike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Canopy Collision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Student is severe spin on back, unconscious -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AAD fired, reserve had twists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Death due to 42g spin or ground impact under reserve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700" spc="-1" strike="noStrike" u="sng">
                <a:solidFill>
                  <a:srgbClr val="000000"/>
                </a:solidFill>
                <a:uFillTx/>
                <a:latin typeface="Arial Unicode MS"/>
              </a:rPr>
              <a:t>Total  36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7" name="Picture 5" descr="logo_ipc_01_trait copie"/>
          <p:cNvPicPr/>
          <p:nvPr/>
        </p:nvPicPr>
        <p:blipFill>
          <a:blip r:embed="rId1"/>
          <a:stretch/>
        </p:blipFill>
        <p:spPr>
          <a:xfrm>
            <a:off x="7093080" y="549360"/>
            <a:ext cx="1511280" cy="92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15640" y="980640"/>
            <a:ext cx="5832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700" spc="-1" strike="noStrike">
                <a:solidFill>
                  <a:srgbClr val="04617b"/>
                </a:solidFill>
                <a:latin typeface="Arial Unicode MS"/>
              </a:rPr>
              <a:t>Fatalities – Largest Groups</a:t>
            </a:r>
            <a:endParaRPr b="0" lang="en-US" sz="37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4360" y="2133720"/>
            <a:ext cx="7991280" cy="38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Intentional Fast Landings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8 - 21% of 39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2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Other Landing Error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7 – 18% of 39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3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Freefall Collision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5 – 13% of 39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anopy handling issues, combined –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5 (38% of total fatalities, 39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0" name="Picture 5" descr="logo_ipc_01_trait copie"/>
          <p:cNvPicPr/>
          <p:nvPr/>
        </p:nvPicPr>
        <p:blipFill>
          <a:blip r:embed="rId1"/>
          <a:stretch/>
        </p:blipFill>
        <p:spPr>
          <a:xfrm>
            <a:off x="7093080" y="549360"/>
            <a:ext cx="1511280" cy="107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10920" y="417600"/>
            <a:ext cx="6181560" cy="9525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5000" spc="-1" strike="noStrike">
                <a:solidFill>
                  <a:srgbClr val="04617b"/>
                </a:solidFill>
                <a:latin typeface="Arial Unicode MS"/>
              </a:rPr>
              <a:t>Significant Figur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68000" y="1916280"/>
            <a:ext cx="800244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00280" indent="-343080" algn="ctr">
              <a:lnSpc>
                <a:spcPct val="80000"/>
              </a:lnSpc>
              <a:spcBef>
                <a:spcPts val="601"/>
              </a:spcBef>
              <a:buClr>
                <a:srgbClr val="e2d700"/>
              </a:buClr>
              <a:buSzPct val="85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OF THE 39 FATALITI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18 (46%) appear to have occurred with the parachutist having at least one good parachute on his/her back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18 (46%) occurred after the successful deployment of the main parachute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2 (5%) might have been avoided by an AAD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29 (74%) appear to have been caused by human error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900" spc="-1" strike="noStrike">
                <a:solidFill>
                  <a:srgbClr val="000000"/>
                </a:solidFill>
                <a:latin typeface="Arial Unicode MS"/>
              </a:rPr>
              <a:t>                </a:t>
            </a:r>
            <a:r>
              <a:rPr b="1" i="1" lang="en-IE" sz="1900" spc="-1" strike="noStrike" u="sng">
                <a:solidFill>
                  <a:srgbClr val="000000"/>
                </a:solidFill>
                <a:uFillTx/>
                <a:latin typeface="Arial Unicode MS"/>
              </a:rPr>
              <a:t>One of the 2016 fatalities was a First Jump Student</a:t>
            </a:r>
            <a:r>
              <a:rPr b="1" i="1" lang="en-IE" sz="19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i="1" lang="en-IE" sz="19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3" name="Picture 4" descr="logo_ipc_01_trait copie"/>
          <p:cNvPicPr/>
          <p:nvPr/>
        </p:nvPicPr>
        <p:blipFill>
          <a:blip r:embed="rId1"/>
          <a:stretch/>
        </p:blipFill>
        <p:spPr>
          <a:xfrm>
            <a:off x="7093080" y="476280"/>
            <a:ext cx="1439640" cy="100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4617b"/>
                </a:solidFill>
                <a:latin typeface="Arial Unicode MS"/>
              </a:rPr>
              <a:t>Some Trends &amp; Issues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71640" y="1990800"/>
            <a:ext cx="7416720" cy="37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ontinuing high percentage of fatalities, 15 (38% of 39) resulting from canopy handling, canopy control, and landing issu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Roughly similar percentage distribution of fatalities between Student/Intermediate/Expert as in previous years .  The category ‘Expert Skydiver’ continues to have the most fatalities, but it has the biggest numbers of jump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AAD and RSL are both now widely used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6" name="Picture 5" descr="logo_ipc_01_trait copie"/>
          <p:cNvPicPr/>
          <p:nvPr/>
        </p:nvPicPr>
        <p:blipFill>
          <a:blip r:embed="rId1"/>
          <a:stretch/>
        </p:blipFill>
        <p:spPr>
          <a:xfrm>
            <a:off x="6877080" y="620640"/>
            <a:ext cx="1440000" cy="10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04617b"/>
                </a:solidFill>
                <a:latin typeface="Arial Unicode MS"/>
              </a:rPr>
              <a:t>Tandem - Solo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539640" y="2276280"/>
            <a:ext cx="8229600" cy="2376360"/>
          </a:xfrm>
          <a:prstGeom prst="rect">
            <a:avLst/>
          </a:prstGeom>
          <a:noFill/>
          <a:ln w="9360">
            <a:solidFill>
              <a:srgbClr val="0f6fc6"/>
            </a:solidFill>
            <a:miter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s 16.1% of </a:t>
            </a:r>
            <a:r>
              <a:rPr b="1" lang="en-IE" sz="2400" spc="-1" strike="noStrike" u="sng">
                <a:solidFill>
                  <a:srgbClr val="000000"/>
                </a:solidFill>
                <a:uFillTx/>
                <a:latin typeface="Arial Unicode MS"/>
              </a:rPr>
              <a:t>all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jumps, Tandem + Sol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6,313,878 Solo jumps – 1,209,732 Tandem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 Fatalities 2; Solo Fatalities 37 (39 total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9" name="Picture 4" descr="logo_ipc_01_trait copie"/>
          <p:cNvPicPr/>
          <p:nvPr/>
        </p:nvPicPr>
        <p:blipFill>
          <a:blip r:embed="rId1"/>
          <a:stretch/>
        </p:blipFill>
        <p:spPr>
          <a:xfrm>
            <a:off x="6877080" y="549360"/>
            <a:ext cx="1440000" cy="9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</cp:lastModifiedBy>
  <dcterms:modified xsi:type="dcterms:W3CDTF">2018-01-21T17:01:29Z</dcterms:modified>
  <cp:revision>118</cp:revision>
  <dc:subject/>
  <dc:title>SAFETY &amp; TRAINING FORUM 25 January 2003</dc:title>
</cp:coreProperties>
</file>