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99415-2711-4A43-A8B5-6786593C1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DC81-A256-45F6-A7AD-91448237A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591A-7D8A-44D8-91AA-79422B002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E4B0-B3B5-4261-9353-826BA14B3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2D63-7F93-4C98-95B4-ED861D387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CB075-CEDF-47AE-8F76-FAFCA1E41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01589-B5D0-4023-8AFB-9EE25C5F2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C4FD9-441E-4E72-978C-4315C5FCE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6BFBB-7B63-4387-9BC3-44E3FFFA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7DF8F-0DD4-45E3-9EA5-4FF474A9F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31F3B-E993-4DCD-B5F3-A3072C7C6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273CB-402A-47DD-8408-690983F3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64A9-D87A-4377-BB49-4190F3FD8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44500-6E42-45A7-B6CA-4ACF2B9E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95585-21E9-4E80-AE83-26AE2AEB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391B4-C534-4A27-934A-0B857527E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3C5EC-1C45-43BE-A219-F4849D402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85FEC-7AC8-4AD3-9CC1-DD03EB2CB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DF49-0E6A-4DDE-AD7A-9B175E44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92BB-85B4-4378-9636-F310E0155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6C03-9537-48A9-A515-0998B86E0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ABE3-7530-40E7-846C-5F3175986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6B6D-38F9-4CF8-80BE-9DC08937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9241-A18A-41F9-8CB7-8CED380B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9731-DA89-403F-BAD0-8A53DECB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88320-6B3B-42A5-9A97-368583E2996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5D060-3571-40C7-BCF2-52F6385CF86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4.jpe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59054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08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4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770,169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18,436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70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82,43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3,121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70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8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3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9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9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56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58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2920" y="1915920"/>
            <a:ext cx="7423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Main/Reserve Entanglement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Equipment issues/problem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Hard Openings –  1 dead on landing, 1 ruptured aorta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Low Canopy Collision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ut of sequence Reserve Deployment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2"/>
          <a:stretch/>
        </p:blipFill>
        <p:spPr>
          <a:xfrm>
            <a:off x="7093080" y="765000"/>
            <a:ext cx="1511280" cy="9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618920" y="2349000"/>
            <a:ext cx="59770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17 – 24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11 – 16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Medical Issues   8 – 11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000" y="1918800"/>
            <a:ext cx="800244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8 of the 70 fatalities (69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5 of the 70 fatalities (50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70 fatalities (14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7 of the 70 fatalities (67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8  (11.4%)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of the 70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6  (  8.6%) of the 70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4167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, 35 – 50%, resulting from canopy handling and landing issues – a continuing concer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talities from Medical Issues, minimum 8 – 11.4%.  See Medical Requirements Survey Report by T&amp;S Committee and Elisabet Pettersson presentation –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Medical and Disability Considerations in Skydiv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2.1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9.6% in 2007; 12.2% in 2006; 10.4% in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073,891 Solo jumps – 696,278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  4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6 (8.6%)       Solo Fatalities 64 (91.4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08 AAD Report, and Power Point presentations for both reports, has been sent by e-mail to all respondents and to all other countries for which we have e-mail addresses.  CDs are available to IPC Delegates and to those 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9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9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9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6) issued in 2009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Medical Requirements Survey Re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200" spc="-1" strike="noStrike">
                <a:solidFill>
                  <a:srgbClr val="ffffff"/>
                </a:solidFill>
                <a:latin typeface="Arial"/>
              </a:rPr>
              <a:t>Medical &amp; Disability Considerations in Parachuting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 – Presentation by Ms Elisabet Petterss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08 are requested to make a special effort to do so for 2009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020000" y="765000"/>
            <a:ext cx="1328760" cy="7700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10-01-21T12:56:55Z</dcterms:modified>
  <cp:revision>62</cp:revision>
  <dc:subject/>
  <dc:title>SAFETY &amp; TRAINING FORUM 25 January 2003</dc:title>
</cp:coreProperties>
</file>