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BAE8-FAD6-4467-9DF0-081F7E6E1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CB89-2E36-4347-A4BD-A0DC98454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C9A9-8EDA-4CC5-BCD9-1828919B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63F7-1457-41AC-9814-9A9678248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DC43-F5BD-4FEC-B5DA-59DBD56CC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6AFD-4CE0-416C-B644-F4627C2EF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6E72-616B-4E4B-81C8-9C09EDDA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FEA5-A347-45E9-884D-BB3C3955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8288-0864-4E4F-B0A6-9B23AEEC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79E0-ED5E-4FC6-AD9A-9350767A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D044-AEA8-4DE2-A433-55DF8A45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4F17-4DB1-46EB-AFD1-27B04596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9475-281F-42A5-AD26-A1677332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D583-AD65-4AF2-838E-C8075607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0F67-ACC8-471F-B3A5-4C21A3C8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5006-6690-4CB0-AF32-B5931590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0378-F10D-472B-A30B-F1275B457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FF08-A22B-4391-A6E3-3A8580531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0EC2-4D4D-4CB0-823A-DD48F05D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FC8C-A99E-400D-8212-FB478840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660C-40EC-476D-9BDE-B1C039D7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3CC0-5A8D-46A6-B221-DDDC119D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BA7B-4F78-4531-844E-0BB31A9F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8C8B-879B-43DD-887A-3FE8A2EC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DD2B-51D6-4A51-BDE9-0C883418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212C-2BEE-41F4-814B-44925A29EF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1BEB-D4A6-4333-97CF-F730910AD0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5905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6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958,194 skydives were made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832,683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1 people were killed skyd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16,827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6,327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51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2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8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Other’ Fatalities (37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and bag-lock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lfunction of deploy. device, no reserve act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Rotation under canopy until impac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on opening (CF jump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 &amp; impact with build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772164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% (16) Fast Canop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8% (  9) No or Low Main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Ac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0% each ( 5 each) Other Landing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Errors and Equipment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7 of the 51 fatalities (73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1 of the 51 fatalities (41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0 of the 51 fatalities (20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 of the 51 fatalities (80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5 of the 51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51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27% of fatalities in 2006 – AAD may have reduced this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12.2% against all Solo jumps  in 2006 – 10.4% in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311,515 Solo jumps – 646,67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 2 (4%)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Solo Fatalities 49 (96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6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Protective Headwear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Bulletins (2) issued in 2007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7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06 are earnestly requested to make a special effort to do so for 2007.  The compilation of data is to the benefit of the country gathering same, not just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8-01-16T08:38:04Z</dcterms:modified>
  <cp:revision>48</cp:revision>
  <dc:subject/>
  <dc:title>SAFETY &amp; TRAINING FORUM 25 January 2003</dc:title>
</cp:coreProperties>
</file>