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EE16-2340-47D8-9BAB-CFFD1FF84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F7035-4E77-4361-9B5D-B36037896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C9AEC-A507-426F-805E-55780377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0C3BE-6164-420B-B6D3-85B194D4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BF8A0-CF54-44B8-81C7-263AC146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D499-BB20-4D39-9391-D77FF521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9DF0-F489-4BE0-A72E-54172B6A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CB8B-A853-46BD-92E6-99B56DFC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07BB-4373-4630-A5E5-3B7ED71A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F31E-996D-4C92-BCDD-8AFC7402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3062-3362-48B1-8CBB-209EEF05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8795-32F3-436A-906C-3B01C17A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F8293-FB86-491F-BB58-E35CC164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FF7E-EA96-49B3-AFC4-5ACA36E7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97A0-A80D-49B6-91F3-F836CC50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A493-EF9A-411A-B581-6CDCFB2B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F04D-B258-4305-9C6D-A943CCE63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C74C-1A66-410C-A861-B49F20F4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DB5CF-5FD8-41AB-B0EF-C58EF455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40315-F363-49CD-B537-06D80519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29BF1-7FE0-4FF1-9366-DBC52DF2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CD3C2-B1EF-43F8-9E3E-9F4AF5C4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09B14-A9C0-4B40-A56D-C6DAD1BA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D837A-0F13-4D95-B9E9-901454AE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674CC-5115-49D2-9B9C-BAD9DE1A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AE83-9195-4465-B769-F65BD2F298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CCC1-236D-4DE9-82B8-879A90EBED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8243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4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5596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,332,756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493,250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3 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100,618 jumps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9,307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              </a:t>
            </a: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53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218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8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1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4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4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692360" cy="1039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47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8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during CF open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ow cutaway &amp; Line twists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anopy collision during C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unconscious before AAD fir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Hard 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caught cutaway canopy whic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d with jumper’s own mai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Total 4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9311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2% (17) Landing Err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 9) Fast canop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3%  (7) Equipment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IE" sz="28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i="1" lang="en-IE" sz="40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02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66% of the 53 fatalities (18 were discounted for this statistic)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1% - 27 of 53 fatalities, occurred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% - 6 of the 53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79% - 42 of the 53 fatalities,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Emphasis on good and thorough initial and ongoing training is probably the only way in which the big numbers of fatalities, especially from canopy handling/landing, may be reduc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4 AAD Report, and Power Point presentations for both reports, has been sent by e-mail to all respondents and to all other countries for which we have e-mail addresses (72 in total)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–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Visiting Jumper Requirements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Chart 2006 – with details of AADs on the marke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Reserve Life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tudent Canopy Loading Gu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Not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55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6-01-16T20:58:31Z</dcterms:modified>
  <cp:revision>33</cp:revision>
  <dc:subject/>
  <dc:title>SAFETY &amp; TRAINING FORUM 25 January 2003</dc:title>
</cp:coreProperties>
</file>