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7BA34-C15B-4ECE-A03B-E2C2DC7FF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2028F-C6CB-4E92-81A3-0ABC4734EE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86EA-6D45-41DD-8B85-56E2FFA0F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EE1D-CCD2-4E59-BC94-1211DF583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6EEE-37E5-4CC1-BAE4-EB53DE968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A802-EA56-4277-A7C6-9F508FF02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7AD98-10A9-4999-BE8C-0D369BF81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45002-ECFB-4D44-A62C-AC58BF442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E2AEE-8200-4AEE-A62A-641D70A31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6FC46-9727-40C5-AEA0-46738624D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5D52E-F0B1-49C8-BA03-F08516D4B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93056-2DA6-40C9-917E-FD3BA345F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9B186-E82A-4A5F-992C-DD2D6698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7B13-F2BA-4055-96DB-18A7F2D12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86369-B522-4B81-83CB-AE4A1F2D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2726F-6E94-47C9-B888-381E3953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58CC0-1CF4-49E9-B8D1-6EBEFBF58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0F082-1914-440B-81B0-E607443F9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83F88-1F49-43A6-9D93-45BDA5059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5ADA-4AD9-4D1B-B040-4FE760A39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BDE2-7567-4560-A1CE-AC6303B54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B648-001B-4B8A-BDC4-2FAF8862D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C69C-4857-442C-8D42-0CACE5AFC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38D2-9E91-4A4F-B1C8-B48B234F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B16F-D673-4A53-832D-5D23DFC6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F78E-517C-4D3B-AC4D-AEEAB2DB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922B2-6CDB-4303-9054-238EF06D1FF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B26F3-2E7E-41FE-B22D-D305829DD90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8.jpe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5" descr="logo_ipc_01_trait copie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2013 Safety Survey Report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2013 Safety Survey Report Power Point Present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Safety Survey 2014 Form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Safety Survey 2014 Notes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400" spc="-1" strike="noStrike">
                <a:solidFill>
                  <a:srgbClr val="ffffff"/>
                </a:solidFill>
                <a:latin typeface="Arial"/>
              </a:rPr>
              <a:t>A Report on Present International Regulations Regarding Diabetes Mellitus        Type 1 and Air S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ose countries who did not report for 2013 are requested to make a specia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effort to do so for 2014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buSzPct val="21168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8" descr="logo_ipc_01_trait copie"/>
          <p:cNvPicPr/>
          <p:nvPr/>
        </p:nvPicPr>
        <p:blipFill>
          <a:blip r:embed="rId2"/>
          <a:stretch/>
        </p:blipFill>
        <p:spPr>
          <a:xfrm>
            <a:off x="7021440" y="404640"/>
            <a:ext cx="1328760" cy="9367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0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ffffff"/>
                </a:solidFill>
                <a:latin typeface="Arial"/>
              </a:rPr>
              <a:t>Respons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68000" y="1628640"/>
            <a:ext cx="8280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39 countries responded, from a possible approximately 85, a response rate of 46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The response rate was similar to 2012 and has been about this rate for the 26 years of the Safety Surve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</a:rPr>
              <a:t>With computerised records now commonly used, it is regrettable that the collection of data for the Safety Report does not appear to be made in many countrie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</a:rPr>
              <a:t>Countries are strongly encouraged to set up data collection systems, which are an essential part of risk assessment and are of value in dealing with sports and aviation author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3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9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805,975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381,239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57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; there were no Tandem fatalities in 201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119,403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24,232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57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(1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0 Intermediate (17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8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(67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5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4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5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 Unicode MS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7" descr="logo_ipc_01_trait copie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44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6983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 - Intentional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No or Low Main Deployment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Unknown Caus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anopy Collis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Equipment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 Malfunction , no ac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Jumper Fell from Harnes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utaway Good Canopy, no further action       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ail strike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F wrap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, no action, AAD fir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but did not cut reserve closing loop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4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5" descr="logo_ipc_01_trait copie"/>
          <p:cNvPicPr/>
          <p:nvPr/>
        </p:nvPicPr>
        <p:blipFill>
          <a:blip r:embed="rId15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4360" y="235116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- 25% of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pull on main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- 19% of 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– 12% of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+ 7 = 21 (37% of total fatalities, 5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5" descr="logo_ipc_01_trait copie"/>
          <p:cNvPicPr/>
          <p:nvPr/>
        </p:nvPicPr>
        <p:blipFill>
          <a:blip r:embed="rId4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, 42 (74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26 (46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 21 (37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 51 (8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HREE of the 2013 Fatalities  (5% of 57) were First Jump Students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percentage of fatalities, 21 (37% of 57)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AAD and RSL now widely us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5" descr="logo_ipc_01_trait copie"/>
          <p:cNvPicPr/>
          <p:nvPr/>
        </p:nvPicPr>
        <p:blipFill>
          <a:blip r:embed="rId4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8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582,526 Solo jumps – 1,223,449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0 ; Solo Fatalities 57 (100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5-01-22T16:03:18Z</dcterms:modified>
  <cp:revision>97</cp:revision>
  <dc:subject/>
  <dc:title>SAFETY &amp; TRAINING FORUM 25 January 2003</dc:title>
</cp:coreProperties>
</file>