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18EF-1E1B-46A1-A5EE-5272DCEA8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9CB6-89AB-4A72-BA40-9228A9550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3828-1C91-4A48-85F6-EB0D976B6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231E-FF04-4FC7-86FF-E89DF43B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2538-8119-4F37-9C89-3977B698D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F828-C232-4F77-AA0C-7765F6F1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3FF8-062A-450F-8E38-E4A1A582C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7196-8991-4623-AF1C-0B60192B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7B5B-19A8-480E-889B-D7C8D7E2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9FF7-A5E3-429D-B3AD-D145DCFF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19F4-C4CB-4DD1-8A06-ED35A30B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C7A4-04D7-4AFE-A34A-6CB623D8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4080-7480-45FA-8C37-B8E7A0BD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590E-5C36-4DD3-8D2D-363085CB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84A9-5EFB-452A-B1A7-64F51D7D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149C-C4B0-41F0-A82C-0FFD1C2D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5518-48F7-4654-8097-ACC141E6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2A7E-1832-4F76-A552-DECBFDEEB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D273-90E8-4909-AAF7-0026F5EA2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F9EE-5670-42A5-AADE-5A79260C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D919-71EC-483A-A7E1-09012590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6B3B-FF66-4066-9465-50D9CF28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6E53-6C8D-4B8B-81CC-97D3278D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DC12-5405-48BD-BD53-563D1716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B2C1-CE5F-4E90-B72D-6262092B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5CC7-C3EE-4859-97BB-1F3D9841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A9DC-2690-498C-A253-F6F9497E55B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8A87-CE90-43CE-A3FF-02120259428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Safety Report 201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9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2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9 are requested to do so for 2020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39640" y="76500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83763"/>
                </a:solidFill>
                <a:latin typeface="Arial Unicode MS"/>
                <a:ea typeface="Arial Unicode MS"/>
              </a:rPr>
              <a:t>Thanks &amp; Rep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6 countries responded, from a possible 82, a response rate of 56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higher than in previous years but still remains at about this level for the 33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9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886,65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34,5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56, 515 Jumps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876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Student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8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Intermediate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1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7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-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9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 -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4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ard Open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2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entangled with body, cutaway &amp;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Premature deployment in aircraft door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evere opening and twists to land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                                                        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ed spinning main, no cutaway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ssumed main activation, but no cutaway or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Unstable cutaway, reserve bridle caught, insufficient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ag to deploy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pinning under reserve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10 – 2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6 – 15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and no reserve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5 –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6 (36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8 (6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Three of the 2019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8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20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523,452 Solo jumps – 1,363,201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4; Solo Fatalities 40(44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1-01-07T22:43:03Z</dcterms:modified>
  <cp:revision>144</cp:revision>
  <dc:subject/>
  <dc:title>SAFETY &amp; TRAINING FORUM 25 January 2003</dc:title>
</cp:coreProperties>
</file>