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3E7A5-36C2-4005-A46B-80B18A1A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31014-6A26-485F-806C-FE26F43B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1D470-99BF-4BB4-A37C-15DBAF28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012E8-4EA6-4168-AAAF-FD15C8D4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8136B-8446-4D37-8394-928D6A24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D225D-F8AF-4736-9B84-2924EDE3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1E295-577F-4545-B0D3-F2861557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FADE9-6D01-4F60-AAE3-DE1A0E2D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41A3E-4615-4A2C-B60D-B0059D8B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6A61C-A5A0-4050-B52C-8C28E592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C92B0-3EEB-4192-9C68-61E0E411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17CAF-917B-4D62-96A3-EA758477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91F352-9717-48E9-A91C-1A24F1F9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40D5DD-8306-4856-9F67-FC3DA75B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E50959-68E6-40B8-9C52-82EFA8B1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3727F7-CBF3-48DC-9B2F-575675D0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99016E-B285-44CA-AA13-BC0C49E4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D487E6-610D-4754-921E-83CE7F72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8FECF8-777A-4325-AAEF-4E13AC0A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388C06-5D95-456C-8F8A-DDFCB9E4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1AFEE8-E4A0-4A40-BA40-FE2370FB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F73F22-AE0F-4AE0-8FFD-69F5EBFF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19445F-CFF5-45AD-BB8D-5BFE1C79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18FF6F-DAC0-459B-8A29-202DCC8B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8F9C38-0B0F-47CE-A256-E1AB3504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21CCDE-35D6-45BF-B3E1-C834E22F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C7CC10-F987-4F20-8081-F2211188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A2E36C-B28C-4F1C-9E1F-A41B9137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3E9F48-E51A-4865-B7AE-99DCA1D2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4C435F-5A4D-4DD6-93D0-00536F8E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99C853-D43F-4C94-8D29-8B5D107B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F3F126-820C-48F9-9C5D-58E39C42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E5DF9B-BC1F-45E6-B750-30628E9D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51065D-A443-44EE-A5E6-4AD2E17F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0F5ED6-763F-4174-9C51-65D02972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440155-ED06-4C7E-8314-BFD26A61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9C6060-312B-4336-B8C8-76257708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B0B527-096C-4442-96C5-78E61682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AA8582-D37E-4DF1-AD24-A7B56D84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036752-9B55-432E-9C41-ED060A4D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67998B-693F-4B12-AD0F-66E277E8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6D4352-F006-4DAC-8ACD-DB8BBF2F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FDB7A9-DE6B-460A-855D-BC9D198D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26F6F0-5DD2-4DCA-9C57-1A42BD8C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765803-04CD-49B6-AD43-E9BC1F27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1ACA3D-5728-4F8D-929E-24C58422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DFC66E-12F5-4047-8544-BAC6E3E6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7D3D93-7C9C-407A-8F1E-95EEEC13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E642-56D7-4D7D-934A-F53C1422B2C2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9AE1-28F3-4111-9D3C-569F849C2390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54E2-DD61-4143-86C0-DACC3EC91ADC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8065-4825-4A8D-80A1-EE54CBE3F588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0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7F21-32D3-4420-97CD-7669AF2B8AC4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7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0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1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2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4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B624-2100-474B-BCB0-F9F13CA7403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85F3-D9C1-4362-B3BF-A80B7C5027AE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512D-90A1-4E52-8685-3EB46745AF9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154E-3282-481B-8C1F-F2E5E503F0FF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6BF3-5041-457C-8318-E8ED054C3CD8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AF1D-CA27-41B1-8DE6-6A06B61CC50C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BA6F-4CD9-42D5-A8F1-441B56C8C859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inancing 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5219640" y="256536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26920" y="256392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71636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xternal 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6948360" y="4724280"/>
            <a:ext cx="2016360" cy="1224000"/>
          </a:xfrm>
          <a:prstGeom prst="rect">
            <a:avLst/>
          </a:prstGeom>
          <a:solidFill>
            <a:srgbClr val="e07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tern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FAI/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N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event organiz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411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79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9"/>
          <p:cNvCxnSpPr>
            <a:stCxn id="390" idx="2"/>
            <a:endCxn id="394" idx="0"/>
          </p:cNvCxnSpPr>
          <p:nvPr/>
        </p:nvCxnSpPr>
        <p:spPr>
          <a:xfrm rot="5400000">
            <a:off x="1258920" y="3572640"/>
            <a:ext cx="1080000" cy="1224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6" name="AutoShape 10"/>
          <p:cNvCxnSpPr>
            <a:stCxn id="390" idx="2"/>
            <a:endCxn id="393" idx="0"/>
          </p:cNvCxnSpPr>
          <p:nvPr/>
        </p:nvCxnSpPr>
        <p:spPr>
          <a:xfrm flipH="1" rot="16200000">
            <a:off x="2374560" y="3680280"/>
            <a:ext cx="1080000" cy="1008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AutoShape 11"/>
          <p:cNvCxnSpPr>
            <a:stCxn id="389" idx="2"/>
            <a:endCxn id="391" idx="0"/>
          </p:cNvCxnSpPr>
          <p:nvPr/>
        </p:nvCxnSpPr>
        <p:spPr>
          <a:xfrm rot="5400000">
            <a:off x="5724720" y="3645360"/>
            <a:ext cx="1078200" cy="108036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AutoShape 12"/>
          <p:cNvCxnSpPr>
            <a:stCxn id="389" idx="2"/>
            <a:endCxn id="392" idx="0"/>
          </p:cNvCxnSpPr>
          <p:nvPr/>
        </p:nvCxnSpPr>
        <p:spPr>
          <a:xfrm flipH="1" rot="16200000">
            <a:off x="6841440" y="3608640"/>
            <a:ext cx="1078200" cy="115344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AutoShape 13"/>
          <p:cNvCxnSpPr>
            <a:stCxn id="388" idx="2"/>
            <a:endCxn id="390" idx="0"/>
          </p:cNvCxnSpPr>
          <p:nvPr/>
        </p:nvCxnSpPr>
        <p:spPr>
          <a:xfrm rot="5400000">
            <a:off x="3170880" y="1278000"/>
            <a:ext cx="526320" cy="2046960"/>
          </a:xfrm>
          <a:prstGeom prst="bentConnector3">
            <a:avLst>
              <a:gd name="adj1" fmla="val 4982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AutoShape 14"/>
          <p:cNvCxnSpPr>
            <a:stCxn id="388" idx="2"/>
            <a:endCxn id="389" idx="0"/>
          </p:cNvCxnSpPr>
          <p:nvPr/>
        </p:nvCxnSpPr>
        <p:spPr>
          <a:xfrm flipH="1" rot="16200000">
            <a:off x="5366520" y="1128600"/>
            <a:ext cx="527760" cy="2346840"/>
          </a:xfrm>
          <a:prstGeom prst="bentConnector3">
            <a:avLst>
              <a:gd name="adj1" fmla="val 4996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6"/>
          <p:cNvSpPr/>
          <p:nvPr/>
        </p:nvSpPr>
        <p:spPr>
          <a:xfrm>
            <a:off x="2627280" y="2565360"/>
            <a:ext cx="1008000" cy="422280"/>
          </a:xfrm>
          <a:prstGeom prst="rightArrow">
            <a:avLst>
              <a:gd name="adj1" fmla="val 56463"/>
              <a:gd name="adj2" fmla="val 6691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2627280" y="380052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 rot="10800000">
            <a:off x="2627280" y="40640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"/>
          <p:cNvSpPr/>
          <p:nvPr/>
        </p:nvSpPr>
        <p:spPr>
          <a:xfrm>
            <a:off x="2627280" y="487980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b170"/>
          </a:solidFill>
          <a:ln w="255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4"/>
          <p:cNvSpPr/>
          <p:nvPr/>
        </p:nvSpPr>
        <p:spPr>
          <a:xfrm rot="10800000">
            <a:off x="2627280" y="5143320"/>
            <a:ext cx="1008000" cy="301320"/>
          </a:xfrm>
          <a:prstGeom prst="rightArrow">
            <a:avLst>
              <a:gd name="adj1" fmla="val 40093"/>
              <a:gd name="adj2" fmla="val 93776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5580000" y="22874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0"/>
          <p:cNvSpPr/>
          <p:nvPr/>
        </p:nvSpPr>
        <p:spPr>
          <a:xfrm rot="10800000">
            <a:off x="5580000" y="255096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5580000" y="3530520"/>
            <a:ext cx="1008000" cy="545400"/>
            <a:chOff x="5580000" y="3530520"/>
            <a:chExt cx="1008000" cy="545400"/>
          </a:xfrm>
        </p:grpSpPr>
        <p:sp>
          <p:nvSpPr>
            <p:cNvPr id="409" name="AutoShape 25"/>
            <p:cNvSpPr/>
            <p:nvPr/>
          </p:nvSpPr>
          <p:spPr>
            <a:xfrm>
              <a:off x="5580000" y="353052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6"/>
            <p:cNvSpPr/>
            <p:nvPr/>
          </p:nvSpPr>
          <p:spPr>
            <a:xfrm rot="10800000">
              <a:off x="5580000" y="37731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5580000" y="4797360"/>
            <a:ext cx="1008000" cy="545400"/>
            <a:chOff x="5580000" y="4797360"/>
            <a:chExt cx="1008000" cy="545400"/>
          </a:xfrm>
        </p:grpSpPr>
        <p:sp>
          <p:nvSpPr>
            <p:cNvPr id="412" name="AutoShape 28"/>
            <p:cNvSpPr/>
            <p:nvPr/>
          </p:nvSpPr>
          <p:spPr>
            <a:xfrm>
              <a:off x="5580000" y="47973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9"/>
            <p:cNvSpPr/>
            <p:nvPr/>
          </p:nvSpPr>
          <p:spPr>
            <a:xfrm rot="10800000">
              <a:off x="5580000" y="504000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Business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 rot="16200000">
            <a:off x="3600360" y="3537000"/>
            <a:ext cx="3456000" cy="503280"/>
          </a:xfrm>
          <a:prstGeom prst="rect">
            <a:avLst/>
          </a:prstGeom>
          <a:solidFill>
            <a:srgbClr val="8da4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rofessio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 rot="16200000">
            <a:off x="2627280" y="3068640"/>
            <a:ext cx="3457440" cy="144144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FAI/CIA ow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6588000" y="206064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826920" y="5805360"/>
            <a:ext cx="7632720" cy="0"/>
          </a:xfrm>
          <a:prstGeom prst="line">
            <a:avLst/>
          </a:prstGeom>
          <a:ln w="316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900000" y="2060640"/>
            <a:ext cx="1727280" cy="13302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AI/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0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900000" y="479124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1951200" y="5967360"/>
            <a:ext cx="15523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ree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900000" y="371160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2"/>
          <p:cNvSpPr/>
          <p:nvPr/>
        </p:nvSpPr>
        <p:spPr>
          <a:xfrm>
            <a:off x="6588000" y="332748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3"/>
          <p:cNvSpPr/>
          <p:nvPr/>
        </p:nvSpPr>
        <p:spPr>
          <a:xfrm>
            <a:off x="6588000" y="4549680"/>
            <a:ext cx="1800360" cy="9669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0"/>
          <p:cNvSpPr/>
          <p:nvPr/>
        </p:nvSpPr>
        <p:spPr>
          <a:xfrm>
            <a:off x="7313760" y="5983200"/>
            <a:ext cx="1008000" cy="327240"/>
          </a:xfrm>
          <a:prstGeom prst="rightArrow">
            <a:avLst>
              <a:gd name="adj1" fmla="val 40093"/>
              <a:gd name="adj2" fmla="val 86348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1"/>
          <p:cNvSpPr/>
          <p:nvPr/>
        </p:nvSpPr>
        <p:spPr>
          <a:xfrm rot="10800000">
            <a:off x="7242120" y="626220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2"/>
          <p:cNvSpPr/>
          <p:nvPr/>
        </p:nvSpPr>
        <p:spPr>
          <a:xfrm>
            <a:off x="5883120" y="5950080"/>
            <a:ext cx="14151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rents 3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678960" y="1722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contrib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7734600" y="1722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6"/>
          <p:cNvSpPr/>
          <p:nvPr/>
        </p:nvSpPr>
        <p:spPr>
          <a:xfrm>
            <a:off x="977760" y="5975280"/>
            <a:ext cx="1008360" cy="327240"/>
          </a:xfrm>
          <a:prstGeom prst="rightArrow">
            <a:avLst>
              <a:gd name="adj1" fmla="val 40093"/>
              <a:gd name="adj2" fmla="val 86379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7"/>
          <p:cNvSpPr/>
          <p:nvPr/>
        </p:nvSpPr>
        <p:spPr>
          <a:xfrm rot="10800000">
            <a:off x="906480" y="625428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8"/>
          <p:cNvSpPr/>
          <p:nvPr/>
        </p:nvSpPr>
        <p:spPr>
          <a:xfrm rot="16200000">
            <a:off x="168120" y="6103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a Contributing N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4560" y="2998440"/>
            <a:ext cx="7610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Example: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NAC 1 runs nationals with 40 competitors every year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wants to contribute with 20 logger to the device poo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1211400" y="2276640"/>
            <a:ext cx="7464240" cy="696240"/>
            <a:chOff x="1211400" y="2276640"/>
            <a:chExt cx="7464240" cy="696240"/>
          </a:xfrm>
        </p:grpSpPr>
        <p:sp>
          <p:nvSpPr>
            <p:cNvPr id="436" name="Rectangle 6"/>
            <p:cNvSpPr/>
            <p:nvPr/>
          </p:nvSpPr>
          <p:spPr>
            <a:xfrm>
              <a:off x="1258920" y="2323800"/>
              <a:ext cx="7416720" cy="649080"/>
            </a:xfrm>
            <a:prstGeom prst="rect">
              <a:avLst/>
            </a:prstGeom>
            <a:solidFill>
              <a:srgbClr val="4c4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1211400" y="2276640"/>
              <a:ext cx="7416720" cy="648720"/>
            </a:xfrm>
            <a:prstGeom prst="rect">
              <a:avLst/>
            </a:prstGeom>
            <a:solidFill>
              <a:srgbClr val="a2c81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Century Gothic"/>
                </a:rPr>
                <a:t>contribute to the device pool and get 20 free rent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"/>
          <p:cNvGraphicFramePr/>
          <p:nvPr/>
        </p:nvGraphicFramePr>
        <p:xfrm>
          <a:off x="1260360" y="4483080"/>
          <a:ext cx="3456000" cy="1614600"/>
        </p:xfrm>
        <a:graphic>
          <a:graphicData uri="http://schemas.openxmlformats.org/drawingml/2006/table">
            <a:tbl>
              <a:tblPr/>
              <a:tblGrid>
                <a:gridCol w="1366920"/>
                <a:gridCol w="649440"/>
                <a:gridCol w="1439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ve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x 20 = 400 free 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logger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53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400 free rent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3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0‘6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2‘0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  <p:sp>
        <p:nvSpPr>
          <p:cNvPr id="439" name="AutoShape 35"/>
          <p:cNvSpPr/>
          <p:nvPr/>
        </p:nvSpPr>
        <p:spPr>
          <a:xfrm>
            <a:off x="2627280" y="5789520"/>
            <a:ext cx="649440" cy="231840"/>
          </a:xfrm>
          <a:prstGeom prst="leftRightArrow">
            <a:avLst>
              <a:gd name="adj1" fmla="val 50000"/>
              <a:gd name="adj2" fmla="val 55765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1"/>
          <p:cNvSpPr/>
          <p:nvPr/>
        </p:nvSpPr>
        <p:spPr>
          <a:xfrm>
            <a:off x="4932360" y="4365720"/>
            <a:ext cx="38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use the loggers in the next 10 events for 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play an active role in the balloon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has priority access to the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doesn‘t neet to care about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Professional Hand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responsibilitie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shipp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invoice process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function check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minor mainenanc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compensation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by case (directly paid by event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on a yearly basis (minor amount paid by device pool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8960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entury Gothic"/>
              </a:rPr>
              <a:t>profi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ompany with experience in international shipping / customs handl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ferably with link to ballooning commun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lready two potential volunteer companies available in EU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FAI/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5219640" y="2457360"/>
            <a:ext cx="3744360" cy="2411640"/>
            <a:chOff x="5219640" y="2457360"/>
            <a:chExt cx="3744360" cy="2411640"/>
          </a:xfrm>
        </p:grpSpPr>
        <p:graphicFrame>
          <p:nvGraphicFramePr>
            <p:cNvPr id="446" name=""/>
            <p:cNvGraphicFramePr/>
            <p:nvPr/>
          </p:nvGraphicFramePr>
          <p:xfrm>
            <a:off x="5219640" y="2560680"/>
            <a:ext cx="3144960" cy="23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9640" y="2560680"/>
                      <a:ext cx="3144960" cy="23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Text Box 4"/>
            <p:cNvSpPr/>
            <p:nvPr/>
          </p:nvSpPr>
          <p:spPr>
            <a:xfrm>
              <a:off x="7739280" y="4071960"/>
              <a:ext cx="122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amort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"/>
            <p:cNvSpPr/>
            <p:nvPr/>
          </p:nvSpPr>
          <p:spPr>
            <a:xfrm>
              <a:off x="5526360" y="4060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renew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f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"/>
            <p:cNvSpPr/>
            <p:nvPr/>
          </p:nvSpPr>
          <p:spPr>
            <a:xfrm>
              <a:off x="6180480" y="24573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hand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5410080" y="277812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main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6951600" y="2624040"/>
              <a:ext cx="1285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6375240" y="3008160"/>
              <a:ext cx="1922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0"/>
          <p:cNvSpPr/>
          <p:nvPr/>
        </p:nvSpPr>
        <p:spPr>
          <a:xfrm>
            <a:off x="1116000" y="2205000"/>
            <a:ext cx="4248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benefits out of 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ealthy and sustainable bus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igh return on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money payback time: 3.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addition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possible future reve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cence fees through selling of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opportunities for partnerships with media and spo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ensure quality, fairness and attractivity of ballooning 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826920" y="5200560"/>
            <a:ext cx="316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7020000" y="227664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use of income</a:t>
            </a:r>
            <a:br>
              <a:rPr sz="1600"/>
            </a:b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ealthy business model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ustainable projec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ositive project for our ballooning spor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fairnes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qual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ermit additional tasks (FON / PDG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lectronic mark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new posibilities for media partnership / sponsorship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uture additional revenu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08:27Z</dcterms:modified>
  <cp:revision>79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