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6749-EE44-4687-ABD8-E98AA33BDA8F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vitalise international ballooning youth cam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03320" y="695160"/>
            <a:ext cx="48499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428A-B0AF-4199-813D-DA54D541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1CCC-EA6F-4093-80A0-97CB189A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3BED-94E9-41C7-8603-0C7AA2EA8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93D9-6C12-4963-8CE6-3BF4F2740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19DA-2D1E-4000-B347-5AA7B04D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A23E-A825-43FF-8FDB-6435AE92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E14A-F2B1-4BBD-858A-B2C73B4D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3683-A00D-42B1-982E-43153F31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AC7A-543A-4C57-8A13-2BD37B7F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11DA-B63D-4C2E-9629-F48EADD71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AA27-04FE-4877-BE2F-739AC226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1031-20ED-4398-A042-B73987BD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D131-FAF0-4DE1-91A9-24CE32CF863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8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593640"/>
            <a:ext cx="823284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Ballooning Youth Activities in Germa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788000" y="1557360"/>
            <a:ext cx="3592440" cy="359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11D6-7F0F-41C9-8571-D903B5AECC2C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53748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32840" cy="46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need of a more robust structure appeared to be crucial for future initi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ain challenge to overcome is the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the increasing help of sponsors and a helpful community in adapting the conditions to youngsters, this can be more affordable and valuable in retu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outh enthusiasm around ballooning can also be captured and fostered by gathering different people from different horizon: countries or airsports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143F-617E-42A5-9318-5FC6F51EF77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3104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What is their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31040" cy="453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ery young involved enjoyed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rom the different initiativ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the feeling to be part of the air sport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arn that teamwork is key to this activity and also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nderstood that self discipline and rigourness during flight preparation and handling of the material really ma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ad great fun with their peers and c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F842-7CC1-4F2D-8682-4E21F4118665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BallonSportJugend des DFSV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8800" y="1600200"/>
            <a:ext cx="4327560" cy="49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BallonSportJugend (BSJ) is a permanent institution of the German Ballooning Federation (DFSV) f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of balloon clubs (youth camps, school and club projects) with know 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of youth activities with the German Balloon Federations Youth Balloon D-OBSJ and youth tent camp mate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1484280"/>
            <a:ext cx="3409920" cy="453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1CEC-8ADF-49D1-A606-A1251F9E9442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nnual Summer Youth Ca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6920" y="3428640"/>
            <a:ext cx="698508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man Balloon Federations (DFSV) BallonSportjugend (BSJ) together with the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irsports Youth of the German Aeroclub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Luftsportjugend des DAeC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nual since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443640" y="1700280"/>
            <a:ext cx="1373040" cy="5158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1557360"/>
            <a:ext cx="1119240" cy="111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995640" y="1557360"/>
            <a:ext cx="117180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39D3-729C-4A9B-9D2F-3C9C73F3459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5680"/>
            <a:ext cx="82310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ther Youth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5640" y="1604520"/>
            <a:ext cx="4103640" cy="279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Juniorenmeisterschaft“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eeting „Jeunes Brûleurs“ in Fr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Youth Airgames“ of the airsports youth of Baden-Württemberg (Germ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601"/>
              </a:spcBef>
              <a:buNone/>
              <a:tabLst>
                <a:tab algn="l" pos="357120"/>
                <a:tab algn="l" pos="806400"/>
                <a:tab algn="l" pos="1255680"/>
                <a:tab algn="l" pos="1704960"/>
                <a:tab algn="l" pos="2154240"/>
                <a:tab algn="l" pos="2603520"/>
                <a:tab algn="l" pos="3052800"/>
                <a:tab algn="l" pos="3502080"/>
                <a:tab algn="l" pos="3951360"/>
                <a:tab algn="l" pos="4400640"/>
                <a:tab algn="l" pos="4849920"/>
                <a:tab algn="l" pos="5299200"/>
                <a:tab algn="l" pos="5748480"/>
                <a:tab algn="l" pos="6197760"/>
                <a:tab algn="l" pos="6647040"/>
                <a:tab algn="l" pos="7095960"/>
                <a:tab algn="l" pos="7545240"/>
                <a:tab algn="l" pos="7994520"/>
                <a:tab algn="l" pos="8443800"/>
                <a:tab algn="l" pos="889308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508720" y="1413000"/>
            <a:ext cx="2700360" cy="36003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508720" y="5157720"/>
            <a:ext cx="2814480" cy="10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E32B-8B86-49BF-867B-47548D438C9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4240"/>
            <a:ext cx="822960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rman-French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95280" y="4581360"/>
            <a:ext cx="4038840" cy="109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nual camp since 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otational located in France and in Germ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1635120" cy="21146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826920" y="1484280"/>
            <a:ext cx="2511720" cy="45277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356000" y="1628640"/>
            <a:ext cx="1693800" cy="187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B8E7-02C7-4E6B-8405-245CF391124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CIA International Youth Cam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Bitterfeld, Germany, 199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199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Czech Paradise, Czech Republik, 1998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Fulda, Germany, 199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Kempten, Germany, 200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ucha, Germany, 200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Wiehl, Germany, 2004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Ortenberg, German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619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16000" y="1844280"/>
            <a:ext cx="4038840" cy="295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0">
              <a:lnSpc>
                <a:spcPct val="93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en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rengthen the participants in international team p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0200" indent="-324000">
              <a:lnSpc>
                <a:spcPct val="93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ourage similar initiatives in other fe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3376440" cy="444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8175-AD18-4A8D-BFC7-A98990F05D03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IA International Youth Camp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oint venture of BallonSportGruppe Stuttgart and the German Balloon Federation (DFSV) with aid of the CIA/FAI, the and the German Aeroclub (Luftsportjugend des DAeC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4 Hot Air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 Gas Ballo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p to 30 Participants from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merica, Africa, Asia, Australia and Europe aged 16 to 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04. AUG bis 10. AUG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uttgart, Germa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4967280" y="1600200"/>
            <a:ext cx="3398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424800"/>
            <a:ext cx="8232840" cy="62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ome feedback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65000" y="1604880"/>
            <a:ext cx="2664000" cy="36194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95320" y="1628280"/>
            <a:ext cx="5095800" cy="428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llooning is not a typical activity for you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in a few countries have youth activities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Germany, Fr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5880" indent="-32076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ly few clubs and balloonists are engaged in capturing youth interest in balloo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1497-A1BD-4937-A83B-6F844F0EF04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9:43:00Z</dcterms:created>
  <dc:creator>Yousif Abdel Gadir hf609249</dc:creator>
  <dc:description/>
  <dc:language>en-US</dc:language>
  <cp:lastModifiedBy> </cp:lastModifiedBy>
  <dcterms:modified xsi:type="dcterms:W3CDTF">2008-03-06T14:19:27Z</dcterms:modified>
  <cp:revision>6</cp:revision>
  <dc:subject/>
  <dc:title>Folie 1</dc:title>
</cp:coreProperties>
</file>