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11F9-33AD-4FB6-AC11-970F273F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0B2-C5A0-4C3D-B5FB-8CBF1EC93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B245-0C3B-42DD-8A34-9A2766F4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66D6-2D07-41D9-B89B-51E160906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D7E9E-1EA6-424B-B7EF-6D2D85A9E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483D-E1F3-421B-9DEB-1C5F838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37D45-3EA4-4F32-91EA-AD59E083E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B90BA-9C38-496B-A866-BD8CD6C4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33BE-5DF1-4373-8556-BCBC8D0C8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3C50-0CCC-4DAD-8FDA-53B9E667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C51E9-66FC-40DA-86AF-FFB5D992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04D8-1AEC-4D85-9CE0-4BA36A48E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DF3D6-FA3A-402C-BE98-ABA3FF47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8A78B-5274-4049-A239-5D590170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5481-BC1E-4498-98C5-66EE997A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FF6C1-0942-44F4-9A00-ADA7D2581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CE68C-17CC-46FF-A699-6EF45AA4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E00-0C09-4A1F-BCD0-286500CE2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ED13-8882-4024-86A5-5CCB0367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A508-7C62-41CC-84CD-E4C957D3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7022-D456-4371-8498-65F84BC1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1C72-B132-412D-8A49-9FDAF47A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044C-CC85-4DC1-8C55-AE33CF2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78F8D-5415-4E1D-8871-9C2689EC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Times New Roman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35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129B6-7C7A-4A94-BF90-6678EC618BB0}" type="datetime">
              <a:rPr b="0" lang="en-GB" sz="8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Picture 45" descr="Netline"/>
          <p:cNvPicPr/>
          <p:nvPr/>
        </p:nvPicPr>
        <p:blipFill>
          <a:blip r:embed="rId2"/>
          <a:stretch/>
        </p:blipFill>
        <p:spPr>
          <a:xfrm>
            <a:off x="7908840" y="6364440"/>
            <a:ext cx="1127160" cy="3776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2000-306B-40C1-A377-4C663A77A53E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2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Rectangle 2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Group 22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Rectangle 7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16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6" name="Picture 28" descr="Netline"/>
          <p:cNvPicPr/>
          <p:nvPr/>
        </p:nvPicPr>
        <p:blipFill>
          <a:blip r:embed="rId2"/>
          <a:stretch/>
        </p:blipFill>
        <p:spPr>
          <a:xfrm>
            <a:off x="6948360" y="6066000"/>
            <a:ext cx="2124360" cy="711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7B20B-DC25-4B94-801C-1EB7F810E9CC}" type="slidenum">
              <a:rPr b="0" lang="de-CH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GPS Logger Project 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09" name="Picture 7" descr="asog_event_partner_RVB"/>
          <p:cNvPicPr/>
          <p:nvPr/>
        </p:nvPicPr>
        <p:blipFill>
          <a:blip r:embed="rId1"/>
          <a:stretch/>
        </p:blipFill>
        <p:spPr>
          <a:xfrm>
            <a:off x="5003640" y="5977080"/>
            <a:ext cx="183384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D8350-F218-4F33-B62E-1975CDD9B7C2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Why new GPS Loggers?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st current loggers are in bad condi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mprove ballooning compet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Virtual marker drop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ly On task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op / reduce discussions about accura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te of the art GPS technology (SiRF III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ilot can view his logged posi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gger interval 1s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mplify logger handling in scorin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CBD1-7142-4065-8A18-3DDA089DD7AB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Key feature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la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view scored position (in UTM or Long/Lat) and altitude (in feet or meter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Keypa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enter Fly On goals or drop marker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SB-Po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use logger as navigation device for the pilot’s lapto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D-Car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store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gitally sign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rack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rial output fo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elemetr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ve tracking/scoring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iRF III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PS technolog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CD137-ACBC-44A8-B0D5-D2E97B5C3A3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totyp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1" name="Picture 7" descr="Extracted2"/>
          <p:cNvPicPr/>
          <p:nvPr/>
        </p:nvPicPr>
        <p:blipFill>
          <a:blip r:embed="rId1"/>
          <a:stretch/>
        </p:blipFill>
        <p:spPr>
          <a:xfrm>
            <a:off x="611280" y="1989000"/>
            <a:ext cx="3633840" cy="3886200"/>
          </a:xfrm>
          <a:prstGeom prst="rect">
            <a:avLst/>
          </a:prstGeom>
          <a:ln w="0">
            <a:noFill/>
          </a:ln>
        </p:spPr>
      </p:pic>
      <p:sp>
        <p:nvSpPr>
          <p:cNvPr id="122" name="Line 10"/>
          <p:cNvSpPr/>
          <p:nvPr/>
        </p:nvSpPr>
        <p:spPr>
          <a:xfrm flipH="1">
            <a:off x="2843280" y="1268280"/>
            <a:ext cx="2016000" cy="79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1"/>
          <p:cNvSpPr/>
          <p:nvPr/>
        </p:nvSpPr>
        <p:spPr>
          <a:xfrm flipH="1">
            <a:off x="1403280" y="1844640"/>
            <a:ext cx="3456000" cy="165564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>
            <a:off x="2556000" y="2421000"/>
            <a:ext cx="230328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H="1">
            <a:off x="2484000" y="3573360"/>
            <a:ext cx="2374920" cy="151128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5"/>
          <p:cNvSpPr/>
          <p:nvPr/>
        </p:nvSpPr>
        <p:spPr>
          <a:xfrm flipH="1">
            <a:off x="2050560" y="2997360"/>
            <a:ext cx="2808360" cy="115236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"/>
          <p:cNvSpPr/>
          <p:nvPr/>
        </p:nvSpPr>
        <p:spPr>
          <a:xfrm flipH="1">
            <a:off x="4140000" y="4149720"/>
            <a:ext cx="718920" cy="792000"/>
          </a:xfrm>
          <a:prstGeom prst="line">
            <a:avLst/>
          </a:prstGeom>
          <a:ln w="12600">
            <a:solidFill>
              <a:srgbClr val="00007d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>
            <a:off x="4860720" y="1052640"/>
            <a:ext cx="23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iRF III GPS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4861800" y="162864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4863240" y="2205000"/>
            <a:ext cx="16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4-lines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4863240" y="2781360"/>
            <a:ext cx="246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AVR32 Micro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861080" y="335772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3"/>
          <p:cNvSpPr/>
          <p:nvPr/>
        </p:nvSpPr>
        <p:spPr>
          <a:xfrm>
            <a:off x="4862160" y="393372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Key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4" descr="Extracted"/>
          <p:cNvPicPr/>
          <p:nvPr/>
        </p:nvPicPr>
        <p:blipFill>
          <a:blip r:embed="rId2"/>
          <a:stretch/>
        </p:blipFill>
        <p:spPr>
          <a:xfrm>
            <a:off x="6772320" y="3284640"/>
            <a:ext cx="2044800" cy="25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Date Placeholder 6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44683-0A82-471C-9210-3714B1D7786F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Progres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iscussions at CIA Conference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ts of talks in summer 2007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ystem desig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totype developm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sted different GPS receivers (approx. 20 fligh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S logger repor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ooking for a production partne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39" name="Picture 7" descr="IMG_0805"/>
          <p:cNvPicPr/>
          <p:nvPr/>
        </p:nvPicPr>
        <p:blipFill>
          <a:blip r:embed="rId1"/>
          <a:stretch/>
        </p:blipFill>
        <p:spPr>
          <a:xfrm>
            <a:off x="5003640" y="4005360"/>
            <a:ext cx="3265560" cy="2176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" descr="IMG_0726"/>
          <p:cNvPicPr/>
          <p:nvPr/>
        </p:nvPicPr>
        <p:blipFill>
          <a:blip r:embed="rId2"/>
          <a:stretch/>
        </p:blipFill>
        <p:spPr>
          <a:xfrm>
            <a:off x="5364000" y="692280"/>
            <a:ext cx="252900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B84AC-1D4D-40B2-AFEB-856D47C9C2F4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Cost / Production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Production partner not yet defined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Cost per device estimation: 600 - 1000 €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 Narrow"/>
              </a:rPr>
              <a:t>Build at least 100 devices as soon as possibl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1916-EE95-49A5-AFF4-79BB9CD5B728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Next steps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cide on financing model / find investo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uild a second prototype based on custom electronics and chassis until Jun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est in several ev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duction of series zero after summer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Arial Narrow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ore units available by summer 2009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metable is depends on financing solution!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5000" spc="-1" strike="noStrike">
                <a:solidFill>
                  <a:srgbClr val="ffffff"/>
                </a:solidFill>
                <a:latin typeface="Arial Narrow"/>
              </a:rPr>
              <a:t>Backup</a:t>
            </a:r>
            <a:endParaRPr b="0" lang="en-US" sz="5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oter Placeholder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800" spc="-1" strike="noStrike">
                <a:solidFill>
                  <a:srgbClr val="000000"/>
                </a:solidFill>
                <a:latin typeface="Arial"/>
              </a:rPr>
              <a:t>Copyright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© 2008 by André-Ne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Date Placeholder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93318-0A83-40FB-8C12-38678721BCEC}" type="datetime3">
              <a:rPr b="0" lang="en-GB" sz="8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 Narrow"/>
              </a:rPr>
              <a:t>About André-Netline</a:t>
            </a: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ukas André, MSc BA Uni Bern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Marc André, MSc ETH E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dré-Netline has been developing custom software for more than 10 year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perienced in ballooning competition as team member and scoring officials (national and international)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5T13:07:08Z</dcterms:created>
  <dc:creator>Lukas André</dc:creator>
  <dc:description/>
  <dc:language>en-US</dc:language>
  <cp:lastModifiedBy>Claude Weber</cp:lastModifiedBy>
  <dcterms:modified xsi:type="dcterms:W3CDTF">2008-03-07T10:58:15Z</dcterms:modified>
  <cp:revision>60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