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3CF2-244B-4606-A4B9-3346FAD6155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italise international ballooning youth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2694-088B-46D1-BD09-A30AC77B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35A-1981-4980-A6FD-3DCFA79E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60D-5F69-4178-A6A2-7A22F125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F801-5D91-4A37-9399-8B1264B7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DDEF-C85D-4276-92B0-00F7F09A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036E-E073-43DF-B16D-B81D10BB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F452-C876-4E17-87E1-C3153365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FFB5-4D4C-4C60-A043-3F79717A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C2CB-62A6-4FD2-944B-557BE930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20C1-A5E6-4987-85E2-9D171258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20D6-F87A-4B9E-A47C-2C5121A6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6362-7EE5-401E-A5B3-F89A1141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1120-1535-4D7E-B2D3-5DF2ED2FA87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93640"/>
            <a:ext cx="8232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llooning Youth Activities in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592440" cy="35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E822-DE65-46A6-B517-30B2FF12430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748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of a more robust structure appeared to be crucial for future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in challenge to overcome is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the increasing help of sponsors and a helpful community in adapting the conditions to youngsters, this can be more affordable and valuable in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th enthusiasm around ballooning can also be captured and fostered by gathering different people from different horizon: countries or airsport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756B-F3D9-453D-A95E-3C25FBAF93D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their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young involved enjoyed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different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the feeling to be part of the air spor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that teamwork is key to this activity and als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ood that self discipline and rigourness during flight preparation and handling of the material really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great fun with their peers and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ACB1-667E-4A05-B139-041505DD26C9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llonSportJugend des DFS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8800" y="1600200"/>
            <a:ext cx="432756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llonSportJugend (BSJ) is a permanent institution of the German Ballooning Federation (DFSV)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of balloon clubs (youth camps, school and club projects) with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with the German Balloon Federations Youth Balloon D-OBSJ and youth tent camp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409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D02-7527-4475-BBA6-27B3E7B6FFA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nual Summer Youth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698508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man Balloon Federations (DFSV) BallonSportjugend (BSJ) together with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sports Youth of the German Aeroclub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uftsportjugend des DAe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since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43640" y="1700280"/>
            <a:ext cx="1373040" cy="51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11924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117180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66ED-44D6-415C-B0E2-2A5725EB9E7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5680"/>
            <a:ext cx="82310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Youth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5640" y="1604520"/>
            <a:ext cx="41036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orenmeisterschaft“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„Jeunes Brûleurs“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th Airgames“ of the airsports youth of Baden-Württemberg (Ger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5157720"/>
            <a:ext cx="281448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8C27-901D-48FE-A42C-B10177EC9AD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rman-French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5280" y="4581360"/>
            <a:ext cx="403884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camp sinc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ional located in France and 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16351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511720" cy="452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16938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8A34-AA4A-4B18-83F6-B4989AB8C42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IA International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terfeld, Germany,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zech Paradise, Czech Republik,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lda, Germany,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mpten, Germany,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enberg, German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 the participants in international team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ourage similar initiatives in other fe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37644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EA28-4250-43B4-B3E5-97DE7B8DA1D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venture of BallonSportGruppe Stuttgart and the German Balloon Federation (DFSV) with aid of the CIA/FAI, the and the German Aeroclub (Luftsportjugend des DAe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Hot Air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Gas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 to 30 Participants fro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, Africa, Asia, Australia and Europe aged 16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4. AUG bis 10. AU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ttgar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480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5000" y="1604880"/>
            <a:ext cx="2664000" cy="361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95320" y="1628280"/>
            <a:ext cx="5095800" cy="42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ing is not a typical activity for you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n a few countries have youth activiti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Germany, F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few clubs and balloonists are engaged in capturing youth interest in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F203-6671-4927-80B6-E566EC4CE7F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9:43:00Z</dcterms:created>
  <dc:creator>Yousif Abdel Gadir hf609249</dc:creator>
  <dc:description/>
  <dc:language>en-US</dc:language>
  <cp:lastModifiedBy> </cp:lastModifiedBy>
  <dcterms:modified xsi:type="dcterms:W3CDTF">2008-03-06T14:19:27Z</dcterms:modified>
  <cp:revision>6</cp:revision>
  <dc:subject/>
  <dc:title>Folie 1</dc:title>
</cp:coreProperties>
</file>