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FBB3-273A-45EF-A86A-960C474C174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italise international ballooning youth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E47D-5D96-419E-B67C-9938FAF5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5D23-FA28-4039-8BCC-259A700E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D0A-9B6E-4534-A4E3-301FE69A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2AA5-6219-45EB-AEC4-A117CC1F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8643-669F-4B0E-90B2-E07F0C0D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0682-F2A2-4DEE-8513-FF5E72AD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FE2F-D057-4183-9467-EABDFB59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1DF5-18E5-41B5-B48E-0546B285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1D10-424F-416F-AE74-7CC0FBFD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15C7-E31C-4409-BA92-493BF298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51E0-5F97-41F2-8882-64342582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C826-4593-477A-BA3D-24E8202B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E00E-BBAB-452B-B47C-D4B781B344E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93640"/>
            <a:ext cx="8232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llooning Youth Activities in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592440" cy="35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FFFA-0C99-4BA4-A329-8B58F33B41A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748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of a more robust structure appeared to be crucial for future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in challenge to overcome is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the increasing help of sponsors and a helpful community in adapting the conditions to youngsters, this can be more affordable and valuable in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th enthusiasm around ballooning can also be captured and fostered by gathering different people from different horizon: countries or airsport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F756-1F05-4126-A355-DA89ECB10D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their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young involved enjoyed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different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the feeling to be part of the air spor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that teamwork is key to this activity and als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ood that self discipline and rigourness during flight preparation and handling of the material really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great fun with their peers and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A81-AB87-46E2-97F1-5FD28171D3D6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llonSportJugend des DFS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8800" y="1600200"/>
            <a:ext cx="432756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llonSportJugend (BSJ) is a permanent institution of the German Ballooning Federation (DFSV)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of balloon clubs (youth camps, school and club projects) with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with the German Balloon Federations Youth Balloon D-OBSJ and youth tent camp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409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711B-40A5-444B-A9FA-D5D1AACAFC2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nual Summer Youth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698508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man Balloon Federations (DFSV) BallonSportjugend (BSJ) together with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sports Youth of the German Aeroclub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uftsportjugend des DAe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since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43640" y="1700280"/>
            <a:ext cx="1373040" cy="51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11924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117180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9D91-80E6-4147-B3B0-EAB3FD793D5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5680"/>
            <a:ext cx="82310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Youth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5640" y="1604520"/>
            <a:ext cx="41036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orenmeisterschaft“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„Jeunes Brûleurs“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th Airgames“ of the airsports youth of Baden-Württemberg (Ger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5157720"/>
            <a:ext cx="281448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F8D9-49A4-4F9B-A717-B12990B2193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rman-French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5280" y="4581360"/>
            <a:ext cx="403884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camp sinc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ional located in France and 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16351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511720" cy="452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16938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9092-7017-4FCD-9D71-238FDC64058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IA International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terfeld, Germany,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zech Paradise, Czech Republik,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lda, Germany,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mpten, Germany,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enberg, German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 the participants in international team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ourage similar initiatives in other fe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37644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B7CD-6CD6-408D-9059-106C7529ECE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venture of BallonSportGruppe Stuttgart and the German Balloon Federation (DFSV) with aid of the CIA/FAI, the and the German Aeroclub (Luftsportjugend des DAe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Hot Air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Gas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 to 30 Participants fro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, Africa, Asia, Australia and Europe aged 16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4. AUG bis 10. AU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ttgar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480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5000" y="1604880"/>
            <a:ext cx="2664000" cy="361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95320" y="1628280"/>
            <a:ext cx="5095800" cy="42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ing is not a typical activity for you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n a few countries have youth activiti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Germany, F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few clubs and balloonists are engaged in capturing youth interest in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1542-159F-424C-A815-CB03BFB42AF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9:43:00Z</dcterms:created>
  <dc:creator>Yousif Abdel Gadir hf609249</dc:creator>
  <dc:description/>
  <dc:language>en-US</dc:language>
  <cp:lastModifiedBy> </cp:lastModifiedBy>
  <dcterms:modified xsi:type="dcterms:W3CDTF">2008-03-06T14:19:27Z</dcterms:modified>
  <cp:revision>6</cp:revision>
  <dc:subject/>
  <dc:title>Folie 1</dc:title>
</cp:coreProperties>
</file>