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17E21-F845-42C5-AE89-3A3490A45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D166E-41A3-4A5A-8968-BDA09E31F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4C090-779E-4640-917D-6B399BA0D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6C747-5B0E-4899-83F3-1FD678E6D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3A565-6689-409A-A4E2-A2F4B83B2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C1935-04A0-49EA-B5F8-56A911ED7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D911B-5E83-4A89-9C23-28A1D538E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CF80F-61E7-4FF7-9C67-67ADEA1FE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B194D-7552-47A9-BCF1-27E18B6F8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CFD53-07F6-47AF-A889-618AB6176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48609-85E9-4518-8C2A-2991B0B3F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12A57-C2D5-4B5D-ACC6-DDD0D6442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0E396-0760-47B4-9622-8008AF6A6044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-14400"/>
            <a:ext cx="9158400" cy="6872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0" y="0"/>
            <a:ext cx="9180000" cy="6884640"/>
            <a:chOff x="0" y="0"/>
            <a:chExt cx="9180000" cy="6884640"/>
          </a:xfrm>
        </p:grpSpPr>
        <p:sp>
          <p:nvSpPr>
            <p:cNvPr id="45" name=""/>
            <p:cNvSpPr/>
            <p:nvPr/>
          </p:nvSpPr>
          <p:spPr>
            <a:xfrm>
              <a:off x="0" y="0"/>
              <a:ext cx="9180000" cy="6884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2400" spc="-1" strike="noStrike">
                  <a:solidFill>
                    <a:srgbClr val="ffffff"/>
                  </a:solidFill>
                  <a:latin typeface="Arial"/>
                </a:rPr>
                <a:t>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2400" spc="-1" strike="noStrike">
                  <a:solidFill>
                    <a:srgbClr val="ffffff"/>
                  </a:solidFill>
                  <a:latin typeface="Arial"/>
                </a:rPr>
                <a:t>     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1"/>
            <a:stretch/>
          </p:blipFill>
          <p:spPr>
            <a:xfrm>
              <a:off x="1303200" y="112680"/>
              <a:ext cx="6527160" cy="67276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670200" y="6199200"/>
            <a:ext cx="21099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Contrat de prestatio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2009-201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451640" y="115920"/>
            <a:ext cx="136836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ffffff"/>
                </a:solidFill>
                <a:latin typeface="Arial"/>
              </a:rPr>
              <a:t>Genève Tourisme</a:t>
            </a:r>
            <a:br>
              <a:rPr sz="1000"/>
            </a:br>
            <a:r>
              <a:rPr b="1" lang="fr-CH" sz="800" spc="-1" strike="noStrike">
                <a:solidFill>
                  <a:srgbClr val="ffffff"/>
                </a:solidFill>
                <a:latin typeface="Arial"/>
              </a:rPr>
              <a:t>&amp; Bureau des congrè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ffffff"/>
                </a:solidFill>
                <a:latin typeface="Arial"/>
              </a:rPr>
              <a:t>                            </a:t>
            </a:r>
            <a:r>
              <a:rPr b="0" lang="fr-CH" sz="10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477800" y="330120"/>
            <a:ext cx="6191280" cy="6194520"/>
          </a:xfrm>
          <a:prstGeom prst="ellipse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698480" y="2349360"/>
            <a:ext cx="5681880" cy="19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ffffff"/>
                </a:solidFill>
                <a:latin typeface="Arial"/>
              </a:rPr>
              <a:t>Thank you for your attention</a:t>
            </a:r>
            <a:br>
              <a:rPr sz="2500"/>
            </a:br>
            <a:br>
              <a:rPr sz="2500"/>
            </a:br>
            <a:r>
              <a:rPr b="0" lang="fr-FR" sz="2500" spc="-1" strike="noStrike">
                <a:solidFill>
                  <a:srgbClr val="ffffff"/>
                </a:solidFill>
                <a:latin typeface="Arial"/>
              </a:rPr>
              <a:t>See you in September …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fr-FR" sz="2500" spc="-1" strike="noStrike">
                <a:solidFill>
                  <a:srgbClr val="ffffff"/>
                </a:solidFill>
                <a:latin typeface="Arial"/>
              </a:rPr>
              <a:t>over Geneva</a:t>
            </a:r>
            <a:r>
              <a:rPr b="0" lang="fr-FR" sz="2500" spc="-1" strike="noStrike">
                <a:solidFill>
                  <a:srgbClr val="ffffff"/>
                </a:solidFill>
                <a:latin typeface="Arial"/>
              </a:rPr>
              <a:t>” !</a:t>
            </a:r>
            <a:br>
              <a:rPr sz="2500"/>
            </a:br>
            <a:br>
              <a:rPr sz="3000"/>
            </a:b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zoom dir="in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-14400"/>
            <a:ext cx="9158400" cy="6872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0" y="0"/>
            <a:ext cx="9180000" cy="6884640"/>
            <a:chOff x="0" y="0"/>
            <a:chExt cx="9180000" cy="6884640"/>
          </a:xfrm>
        </p:grpSpPr>
        <p:sp>
          <p:nvSpPr>
            <p:cNvPr id="135" name=""/>
            <p:cNvSpPr/>
            <p:nvPr/>
          </p:nvSpPr>
          <p:spPr>
            <a:xfrm>
              <a:off x="0" y="0"/>
              <a:ext cx="9180000" cy="6884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2400" spc="-1" strike="noStrike">
                  <a:solidFill>
                    <a:srgbClr val="ffffff"/>
                  </a:solidFill>
                  <a:latin typeface="Arial"/>
                </a:rPr>
                <a:t>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2400" spc="-1" strike="noStrike">
                  <a:solidFill>
                    <a:srgbClr val="ffffff"/>
                  </a:solidFill>
                  <a:latin typeface="Arial"/>
                </a:rPr>
                <a:t>     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6" name="" descr=""/>
            <p:cNvPicPr/>
            <p:nvPr/>
          </p:nvPicPr>
          <p:blipFill>
            <a:blip r:embed="rId1"/>
            <a:stretch/>
          </p:blipFill>
          <p:spPr>
            <a:xfrm>
              <a:off x="1303200" y="112680"/>
              <a:ext cx="6527160" cy="67276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>
    <p:blinds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-14400"/>
            <a:ext cx="9158400" cy="6872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-14400" y="-14400"/>
            <a:ext cx="9158400" cy="125748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Annual CIA Meeting - 14.03.09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670200" y="6199200"/>
            <a:ext cx="21099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Contrat de prestatio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2009-201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451640" y="115920"/>
            <a:ext cx="136836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ffffff"/>
                </a:solidFill>
                <a:latin typeface="Arial"/>
              </a:rPr>
              <a:t>Genève Tourisme</a:t>
            </a:r>
            <a:br>
              <a:rPr sz="1000"/>
            </a:br>
            <a:r>
              <a:rPr b="1" lang="fr-CH" sz="800" spc="-1" strike="noStrike">
                <a:solidFill>
                  <a:srgbClr val="ffffff"/>
                </a:solidFill>
                <a:latin typeface="Arial"/>
              </a:rPr>
              <a:t>&amp; Bureau des congrè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0" lang="fr-CH" sz="1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476360" y="836640"/>
            <a:ext cx="5830920" cy="583416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547640" y="2563920"/>
            <a:ext cx="568188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80"/>
                </a:solidFill>
                <a:latin typeface="Arial"/>
              </a:rPr>
              <a:t>From Friday September 4th to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80"/>
                </a:solidFill>
                <a:latin typeface="Arial"/>
              </a:rPr>
              <a:t>Saturday September 12th, 2009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8196120" y="5878440"/>
            <a:ext cx="696960" cy="7192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554120" y="3789360"/>
            <a:ext cx="56818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Centre Sportif de Vessy – City of Geneva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547640" y="4508640"/>
            <a:ext cx="56818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Hôtel Ramada Encore La Praill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71520" y="6329520"/>
            <a:ext cx="2252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0000ff"/>
                </a:solidFill>
                <a:latin typeface="Arial"/>
              </a:rPr>
              <a:t>www.geneva.gordon-bennett.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"/>
          <p:cNvGraphicFramePr/>
          <p:nvPr/>
        </p:nvGraphicFramePr>
        <p:xfrm>
          <a:off x="528480" y="260280"/>
          <a:ext cx="8291520" cy="5861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8480" y="260280"/>
                    <a:ext cx="8291520" cy="586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"/>
          <p:cNvSpPr/>
          <p:nvPr/>
        </p:nvSpPr>
        <p:spPr>
          <a:xfrm>
            <a:off x="2411280" y="4437000"/>
            <a:ext cx="936720" cy="936720"/>
          </a:xfrm>
          <a:prstGeom prst="ellipse">
            <a:avLst/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300720" y="3573360"/>
            <a:ext cx="936720" cy="936720"/>
          </a:xfrm>
          <a:prstGeom prst="ellipse">
            <a:avLst/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258920" y="4005360"/>
            <a:ext cx="1152360" cy="64764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7092720" y="2852640"/>
            <a:ext cx="1006200" cy="79236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50920" y="3357720"/>
            <a:ext cx="1008000" cy="641520"/>
          </a:xfrm>
          <a:prstGeom prst="rect">
            <a:avLst/>
          </a:prstGeom>
          <a:solidFill>
            <a:srgbClr val="ffffff"/>
          </a:solidFill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Hôtel Ramada</a:t>
            </a:r>
            <a:br>
              <a:rPr sz="1200"/>
            </a:b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La Prail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028000" y="2205000"/>
            <a:ext cx="1008000" cy="641520"/>
          </a:xfrm>
          <a:prstGeom prst="rect">
            <a:avLst/>
          </a:prstGeom>
          <a:solidFill>
            <a:srgbClr val="ffffff"/>
          </a:solidFill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Centre sportif</a:t>
            </a:r>
            <a:br>
              <a:rPr sz="1200"/>
            </a:b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de Vess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1" repeatCount="100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000"/>
                            </p:stCondLst>
                            <p:childTnLst>
                              <p:par>
                                <p:cTn id="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200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3000"/>
                            </p:stCondLst>
                            <p:childTnLst>
                              <p:par>
                                <p:cTn id="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3000"/>
                            </p:stCondLst>
                            <p:childTnLst>
                              <p:par>
                                <p:cTn id="4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4000"/>
                            </p:stCondLst>
                            <p:childTnLst>
                              <p:par>
                                <p:cTn id="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34920" y="189000"/>
            <a:ext cx="9074160" cy="64720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-14400" y="-14400"/>
            <a:ext cx="9158400" cy="125748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Annual CIA Meeting - 14.03.09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670200" y="6199200"/>
            <a:ext cx="21099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Contrat de prestatio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2009-201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451640" y="115920"/>
            <a:ext cx="136836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ffffff"/>
                </a:solidFill>
                <a:latin typeface="Arial"/>
              </a:rPr>
              <a:t>Genève Tourisme</a:t>
            </a:r>
            <a:br>
              <a:rPr sz="1000"/>
            </a:br>
            <a:r>
              <a:rPr b="1" lang="fr-CH" sz="800" spc="-1" strike="noStrike">
                <a:solidFill>
                  <a:srgbClr val="ffffff"/>
                </a:solidFill>
                <a:latin typeface="Arial"/>
              </a:rPr>
              <a:t>&amp; Bureau des congrè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0" lang="fr-CH" sz="1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1476360" y="836640"/>
            <a:ext cx="5830920" cy="5832360"/>
            <a:chOff x="1476360" y="836640"/>
            <a:chExt cx="5830920" cy="5832360"/>
          </a:xfrm>
        </p:grpSpPr>
        <p:sp>
          <p:nvSpPr>
            <p:cNvPr id="73" name=""/>
            <p:cNvSpPr/>
            <p:nvPr/>
          </p:nvSpPr>
          <p:spPr>
            <a:xfrm>
              <a:off x="1476360" y="836640"/>
              <a:ext cx="5830920" cy="583236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546200" y="2421720"/>
              <a:ext cx="5681880" cy="273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8196120" y="5878440"/>
            <a:ext cx="696960" cy="71928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1995480" y="2901960"/>
            <a:ext cx="51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City Welcome Party    4.09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       7:30p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56000" y="1557360"/>
            <a:ext cx="36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000" spc="-1" strike="noStrike">
                <a:solidFill>
                  <a:srgbClr val="ff0000"/>
                </a:solidFill>
                <a:latin typeface="Arial"/>
              </a:rPr>
              <a:t>Event Master Sched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411280" y="2133720"/>
            <a:ext cx="41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Pilot registration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4.09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9am-4p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411280" y="2509920"/>
            <a:ext cx="42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General Briefing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4.09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4pm-6p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446200" y="3860640"/>
            <a:ext cx="51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Inflation balloons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5.09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1pm-6p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440080" y="3490920"/>
            <a:ext cx="36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Preflight Briefing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5.09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10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449440" y="4243320"/>
            <a:ext cx="489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Launch Window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5.09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10pm onwa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67080" y="4529160"/>
            <a:ext cx="410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ff"/>
                </a:solidFill>
                <a:latin typeface="Arial"/>
              </a:rPr>
              <a:t>(until Wednesday </a:t>
            </a:r>
            <a:r>
              <a:rPr b="0" lang="fr-CH" sz="1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CH" sz="1200" spc="-1" strike="noStrike">
                <a:solidFill>
                  <a:srgbClr val="0000ff"/>
                </a:solidFill>
                <a:latin typeface="Arial"/>
              </a:rPr>
              <a:t>9.09</a:t>
            </a:r>
            <a:r>
              <a:rPr b="0" lang="fr-CH" sz="1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CH" sz="1200" spc="-1" strike="noStrike">
                <a:solidFill>
                  <a:srgbClr val="0000ff"/>
                </a:solidFill>
                <a:latin typeface="Arial"/>
              </a:rPr>
              <a:t>11:59p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433600" y="5016600"/>
            <a:ext cx="37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Awards Banquet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12.09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 6p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5280" y="6381720"/>
            <a:ext cx="23605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0000ff"/>
                </a:solidFill>
                <a:latin typeface="Arial"/>
              </a:rPr>
              <a:t>www.geneva.gordon-bennett.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77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2" dur="770" fill="hold"/>
                                        <p:tgtEl>
                                          <p:spTgt spid="7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4" dur="77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6" dur="77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77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3" dur="770" fill="hold"/>
                                        <p:tgtEl>
                                          <p:spTgt spid="7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5" dur="77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7" dur="77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77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4" dur="770" fill="hold"/>
                                        <p:tgtEl>
                                          <p:spTgt spid="7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6" dur="77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8" dur="77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77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5" dur="770" fill="hold"/>
                                        <p:tgtEl>
                                          <p:spTgt spid="8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7" dur="77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9" dur="77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77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6" dur="770" fill="hold"/>
                                        <p:tgtEl>
                                          <p:spTgt spid="8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8" dur="77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0" dur="77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77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7" dur="770" fill="hold"/>
                                        <p:tgtEl>
                                          <p:spTgt spid="8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9" dur="77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" dur="77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77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4" dur="770" fill="hold"/>
                                        <p:tgtEl>
                                          <p:spTgt spid="8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6" dur="77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8" dur="77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-14400" y="-14400"/>
            <a:ext cx="9158400" cy="125748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Annual CIA Meeting - 14.03.09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670200" y="6199200"/>
            <a:ext cx="21099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Contrat de prestatio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2009-201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451640" y="115920"/>
            <a:ext cx="136836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ffffff"/>
                </a:solidFill>
                <a:latin typeface="Arial"/>
              </a:rPr>
              <a:t>Genève Tourisme</a:t>
            </a:r>
            <a:br>
              <a:rPr sz="1000"/>
            </a:br>
            <a:r>
              <a:rPr b="1" lang="fr-CH" sz="800" spc="-1" strike="noStrike">
                <a:solidFill>
                  <a:srgbClr val="ffffff"/>
                </a:solidFill>
                <a:latin typeface="Arial"/>
              </a:rPr>
              <a:t>&amp; Bureau des congrè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0" lang="fr-CH" sz="10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1476360" y="779400"/>
            <a:ext cx="5830920" cy="5833800"/>
            <a:chOff x="1476360" y="779400"/>
            <a:chExt cx="5830920" cy="5833800"/>
          </a:xfrm>
        </p:grpSpPr>
        <p:sp>
          <p:nvSpPr>
            <p:cNvPr id="92" name=""/>
            <p:cNvSpPr/>
            <p:nvPr/>
          </p:nvSpPr>
          <p:spPr>
            <a:xfrm>
              <a:off x="1476360" y="779400"/>
              <a:ext cx="5830920" cy="583380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546200" y="2365200"/>
              <a:ext cx="5681880" cy="273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500" spc="-1" strike="noStrike">
                  <a:solidFill>
                    <a:srgbClr val="ffffff"/>
                  </a:solidFill>
                  <a:latin typeface="Arial"/>
                </a:rPr>
                <a:t>Registred NAC’s acceptances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500" spc="-1" strike="noStrike">
                  <a:solidFill>
                    <a:srgbClr val="ffffff"/>
                  </a:solidFill>
                  <a:latin typeface="Arial"/>
                </a:rPr>
                <a:t>USA               3</a:t>
              </a:r>
              <a:br>
                <a:rPr sz="2500"/>
              </a:br>
              <a:r>
                <a:rPr b="0" lang="fr-FR" sz="2500" spc="-1" strike="noStrike">
                  <a:solidFill>
                    <a:srgbClr val="ffffff"/>
                  </a:solidFill>
                  <a:latin typeface="Arial"/>
                </a:rPr>
                <a:t>France           2</a:t>
              </a:r>
              <a:br>
                <a:rPr sz="2500"/>
              </a:br>
              <a:r>
                <a:rPr b="0" lang="fr-FR" sz="2500" spc="-1" strike="noStrike">
                  <a:solidFill>
                    <a:srgbClr val="ffffff"/>
                  </a:solidFill>
                  <a:latin typeface="Arial"/>
                </a:rPr>
                <a:t>Finland           1</a:t>
              </a:r>
              <a:br>
                <a:rPr sz="2500"/>
              </a:br>
              <a:r>
                <a:rPr b="0" lang="fr-FR" sz="2500" spc="-1" strike="noStrike">
                  <a:solidFill>
                    <a:srgbClr val="ffffff"/>
                  </a:solidFill>
                  <a:latin typeface="Arial"/>
                </a:rPr>
                <a:t>Belgium          1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500" spc="-1" strike="noStrike">
                  <a:solidFill>
                    <a:srgbClr val="ffffff"/>
                  </a:solidFill>
                  <a:latin typeface="Arial"/>
                </a:rPr>
                <a:t>Switzerland    3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        </a:t>
              </a: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Germany</a:t>
              </a: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        </a:t>
              </a: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Great-Britain</a:t>
              </a: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        </a:t>
              </a: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Austria</a:t>
              </a: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8196120" y="5878440"/>
            <a:ext cx="696960" cy="7192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24000" y="6338880"/>
            <a:ext cx="2108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0000ff"/>
                </a:solidFill>
                <a:latin typeface="Arial"/>
              </a:rPr>
              <a:t>www.geneva.gordon-bennett.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-14400" y="-14400"/>
            <a:ext cx="9158400" cy="125748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Annual CIA Meeting - 14.03.09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670200" y="6199200"/>
            <a:ext cx="21099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Contrat de prestatio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2009-201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451640" y="115920"/>
            <a:ext cx="136836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ffffff"/>
                </a:solidFill>
                <a:latin typeface="Arial"/>
              </a:rPr>
              <a:t>Genève Tourisme</a:t>
            </a:r>
            <a:br>
              <a:rPr sz="1000"/>
            </a:br>
            <a:r>
              <a:rPr b="1" lang="fr-CH" sz="800" spc="-1" strike="noStrike">
                <a:solidFill>
                  <a:srgbClr val="ffffff"/>
                </a:solidFill>
                <a:latin typeface="Arial"/>
              </a:rPr>
              <a:t>&amp; Bureau des congrè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0" lang="fr-CH" sz="10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1477800" y="835200"/>
            <a:ext cx="5830920" cy="5833800"/>
            <a:chOff x="1477800" y="835200"/>
            <a:chExt cx="5830920" cy="5833800"/>
          </a:xfrm>
        </p:grpSpPr>
        <p:sp>
          <p:nvSpPr>
            <p:cNvPr id="102" name=""/>
            <p:cNvSpPr/>
            <p:nvPr/>
          </p:nvSpPr>
          <p:spPr>
            <a:xfrm>
              <a:off x="1477800" y="835200"/>
              <a:ext cx="5830920" cy="58338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547640" y="2781360"/>
              <a:ext cx="5681880" cy="172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ffff"/>
                  </a:solidFill>
                  <a:latin typeface="Arial"/>
                </a:rPr>
                <a:t>Deadline for Pilots registration</a:t>
              </a:r>
              <a:br>
                <a:rPr sz="1800"/>
              </a:b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3600" spc="-1" strike="noStrike">
                  <a:solidFill>
                    <a:srgbClr val="ffffff"/>
                  </a:solidFill>
                  <a:latin typeface="Arial"/>
                </a:rPr>
                <a:t>Thursday April 30th, 2009</a:t>
              </a:r>
              <a:r>
                <a:rPr b="1" lang="fr-FR" sz="3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br>
                <a:rPr sz="3000"/>
              </a:br>
              <a:br>
                <a:rPr sz="3000"/>
              </a:br>
              <a:r>
                <a:rPr b="0" lang="fr-FR" sz="1800" spc="-1" strike="noStrike">
                  <a:solidFill>
                    <a:srgbClr val="ffffff"/>
                  </a:solidFill>
                  <a:latin typeface="Arial"/>
                </a:rPr>
                <a:t>Including payment of the entry fe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8196120" y="5878440"/>
            <a:ext cx="696960" cy="71928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395280" y="6343560"/>
            <a:ext cx="2144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0000ff"/>
                </a:solidFill>
                <a:latin typeface="Arial"/>
              </a:rPr>
              <a:t>www.geneva.gordon-bennett.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-14400" y="-14400"/>
            <a:ext cx="9158400" cy="125748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Annual CIA Meeting - 14.03.09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670200" y="6199200"/>
            <a:ext cx="21099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Contrat de prestatio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2009-201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451640" y="115920"/>
            <a:ext cx="136836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ffffff"/>
                </a:solidFill>
                <a:latin typeface="Arial"/>
              </a:rPr>
              <a:t>Genève Tourisme</a:t>
            </a:r>
            <a:br>
              <a:rPr sz="1000"/>
            </a:br>
            <a:r>
              <a:rPr b="1" lang="fr-CH" sz="800" spc="-1" strike="noStrike">
                <a:solidFill>
                  <a:srgbClr val="ffffff"/>
                </a:solidFill>
                <a:latin typeface="Arial"/>
              </a:rPr>
              <a:t>&amp; Bureau des congrè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0" lang="fr-CH" sz="10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477800" y="835200"/>
            <a:ext cx="5830920" cy="583380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547640" y="2708280"/>
            <a:ext cx="5681880" cy="19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80"/>
                </a:solidFill>
                <a:latin typeface="Arial"/>
              </a:rPr>
              <a:t>Competition Organisation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80"/>
                </a:solidFill>
                <a:latin typeface="Arial"/>
              </a:rPr>
              <a:t>Mr. Markus Haggen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80"/>
                </a:solidFill>
                <a:latin typeface="Arial"/>
              </a:rPr>
              <a:t>  </a:t>
            </a:r>
            <a:r>
              <a:rPr b="0" lang="fr-FR" sz="3600" spc="-1" strike="noStrike">
                <a:solidFill>
                  <a:srgbClr val="000080"/>
                </a:solidFill>
                <a:latin typeface="Arial"/>
              </a:rPr>
              <a:t>Event Director</a:t>
            </a:r>
            <a:br>
              <a:rPr sz="30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8196120" y="5878440"/>
            <a:ext cx="696960" cy="71928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76200" y="6269040"/>
            <a:ext cx="203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0000ff"/>
                </a:solidFill>
                <a:latin typeface="Arial"/>
              </a:rPr>
              <a:t>www.geneva.gordon-bennett.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-14400" y="-14400"/>
            <a:ext cx="9158400" cy="125748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Annual CIA Meeting - 14.03.09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670200" y="6199200"/>
            <a:ext cx="21099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Contrat de prestatio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2009-201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451640" y="115920"/>
            <a:ext cx="136836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ffffff"/>
                </a:solidFill>
                <a:latin typeface="Arial"/>
              </a:rPr>
              <a:t>Genève Tourisme</a:t>
            </a:r>
            <a:br>
              <a:rPr sz="1000"/>
            </a:br>
            <a:r>
              <a:rPr b="1" lang="fr-CH" sz="800" spc="-1" strike="noStrike">
                <a:solidFill>
                  <a:srgbClr val="ffffff"/>
                </a:solidFill>
                <a:latin typeface="Arial"/>
              </a:rPr>
              <a:t>&amp; Bureau des congrè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0" lang="fr-CH" sz="10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1477800" y="835200"/>
            <a:ext cx="5830920" cy="5833800"/>
            <a:chOff x="1477800" y="835200"/>
            <a:chExt cx="5830920" cy="5833800"/>
          </a:xfrm>
        </p:grpSpPr>
        <p:sp>
          <p:nvSpPr>
            <p:cNvPr id="121" name=""/>
            <p:cNvSpPr/>
            <p:nvPr/>
          </p:nvSpPr>
          <p:spPr>
            <a:xfrm>
              <a:off x="1477800" y="835200"/>
              <a:ext cx="5830920" cy="5833800"/>
            </a:xfrm>
            <a:prstGeom prst="ellips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547640" y="1366920"/>
              <a:ext cx="5681880" cy="414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0" spc="-1" strike="noStrike">
                  <a:solidFill>
                    <a:srgbClr val="ffffff"/>
                  </a:solidFill>
                  <a:latin typeface="Arial"/>
                </a:rPr>
                <a:t>?</a:t>
              </a:r>
              <a:br>
                <a:rPr sz="12000"/>
              </a:br>
              <a:endParaRPr b="0" lang="en-US" sz="30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8196120" y="5878440"/>
            <a:ext cx="696960" cy="71928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338040" y="6270480"/>
            <a:ext cx="225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0000ff"/>
                </a:solidFill>
                <a:latin typeface="Arial"/>
              </a:rPr>
              <a:t>www.geneva.gordon-bennett.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4T10:43:07Z</dcterms:created>
  <dc:creator>Militza Bodi</dc:creator>
  <dc:description/>
  <dc:language>en-US</dc:language>
  <cp:lastModifiedBy>Alex Nagorski</cp:lastModifiedBy>
  <dcterms:modified xsi:type="dcterms:W3CDTF">2009-04-25T03:20:05Z</dcterms:modified>
  <cp:revision>41</cp:revision>
  <dc:subject/>
  <dc:title>Diapositive 1</dc:title>
</cp:coreProperties>
</file>