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1984B-6A89-4A14-999B-8C6A023200C5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EBD59-198A-4C47-938D-BA31FAFF540D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7F88-AA11-4878-A5BA-77BB05A47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5996-8E5A-4D8A-B57B-FBDFBD421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F0A6-D921-4B82-BC33-240DA7B6E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349F-5402-43EA-9EF8-10458F52C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4C80-00DB-49B7-AE04-5DB34FF0D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2DF4-5686-4E87-B880-EF16E1AFC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52B5-8A1B-4A63-A362-C86F1C45D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12BE-F034-4658-8E12-90A80307D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C656-1341-4DFC-8FF0-4554F85EE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FC04-DC0B-4510-8F18-AD3BD819A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8728-12DA-4EB6-8EA8-9DA8770BB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3754-057E-4D0A-8FE6-90A0196B5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54DDA-B188-4917-B7E6-D98F79FFC03D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mailto:oktava@latnet.lv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ontent Placeholder 5" descr="skupsts-balin.jpg"/>
          <p:cNvPicPr/>
          <p:nvPr/>
        </p:nvPicPr>
        <p:blipFill>
          <a:blip r:embed="rId1"/>
          <a:srcRect l="0" t="0" r="1111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953735"/>
                </a:solidFill>
                <a:latin typeface="Calibri"/>
              </a:rPr>
              <a:t>Welcome</a:t>
            </a:r>
            <a:r>
              <a:rPr b="0" lang="lv-LV" sz="4000" spc="-1" strike="noStrike">
                <a:solidFill>
                  <a:srgbClr val="953735"/>
                </a:solidFill>
                <a:latin typeface="Calibri"/>
              </a:rPr>
              <a:t> to the 1st </a:t>
            </a:r>
            <a:r>
              <a:rPr b="1" lang="lv-LV" sz="4000" spc="-1" strike="noStrike">
                <a:solidFill>
                  <a:srgbClr val="953735"/>
                </a:solidFill>
                <a:latin typeface="Calibri"/>
              </a:rPr>
              <a:t>World</a:t>
            </a:r>
            <a:r>
              <a:rPr b="0" lang="lv-LV" sz="4000" spc="-1" strike="noStrike">
                <a:solidFill>
                  <a:srgbClr val="953735"/>
                </a:solidFill>
                <a:latin typeface="Calibri"/>
              </a:rPr>
              <a:t> </a:t>
            </a:r>
            <a:r>
              <a:rPr b="1" lang="lv-LV" sz="4000" spc="-1" strike="noStrike">
                <a:solidFill>
                  <a:srgbClr val="953735"/>
                </a:solidFill>
                <a:latin typeface="Calibri"/>
              </a:rPr>
              <a:t>Women</a:t>
            </a:r>
            <a:r>
              <a:rPr b="0" lang="lv-LV" sz="4000" spc="-1" strike="noStrike">
                <a:solidFill>
                  <a:srgbClr val="953735"/>
                </a:solidFill>
                <a:latin typeface="Calibri"/>
              </a:rPr>
              <a:t> Hot Air Balloon Championshi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7"/>
          <p:cNvSpPr/>
          <p:nvPr/>
        </p:nvSpPr>
        <p:spPr>
          <a:xfrm>
            <a:off x="914400" y="61722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c00000"/>
                </a:solidFill>
                <a:latin typeface="Calibri"/>
              </a:rPr>
              <a:t>LATVIA, Valmiera, May 21-29,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Calibri"/>
              </a:rPr>
              <a:t>PR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53352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CURRENCY - LATVIAN L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1 LVL = 1,4 EUR / 1,78 USD / 1,3 GBP / 2,06 CHF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ACCOMMODATION PER PERSON IN VALMIER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hotels 10-70 LV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hostels 4-25 LV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guest houses 10-30 LV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FUE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E95 = 0,63 LVL/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Diesel = 0,63 LVL/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LPG = 0,35 LVL/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Average MEAL in caffe/bistro 2-5 LVL, in restaurant from 10 LVL u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Content Placeholder 5" descr="21.07.2005 05-44-52_Uno.JPG"/>
          <p:cNvPicPr/>
          <p:nvPr/>
        </p:nvPicPr>
        <p:blipFill>
          <a:blip r:embed="rId2"/>
          <a:stretch/>
        </p:blipFill>
        <p:spPr>
          <a:xfrm>
            <a:off x="0" y="0"/>
            <a:ext cx="5724360" cy="3809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22.07.2005 20-35-49_Uno.JPG"/>
          <p:cNvPicPr/>
          <p:nvPr/>
        </p:nvPicPr>
        <p:blipFill>
          <a:blip r:embed="rId3"/>
          <a:stretch/>
        </p:blipFill>
        <p:spPr>
          <a:xfrm>
            <a:off x="5105520" y="0"/>
            <a:ext cx="4038480" cy="6072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Valmiera 2007 059.jpg"/>
          <p:cNvPicPr/>
          <p:nvPr/>
        </p:nvPicPr>
        <p:blipFill>
          <a:blip r:embed="rId4"/>
          <a:stretch/>
        </p:blipFill>
        <p:spPr>
          <a:xfrm>
            <a:off x="3352680" y="2514600"/>
            <a:ext cx="5791320" cy="43434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Valmiera 2007 079.jpg"/>
          <p:cNvPicPr/>
          <p:nvPr/>
        </p:nvPicPr>
        <p:blipFill>
          <a:blip r:embed="rId5"/>
          <a:stretch/>
        </p:blipFill>
        <p:spPr>
          <a:xfrm>
            <a:off x="0" y="2514600"/>
            <a:ext cx="5791320" cy="43434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600" y="1447920"/>
            <a:ext cx="6477120" cy="4114800"/>
          </a:xfrm>
          <a:prstGeom prst="rect">
            <a:avLst/>
          </a:prstGeom>
          <a:solidFill>
            <a:srgbClr val="eeece1">
              <a:alpha val="80000"/>
            </a:srgbClr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VALMIERA HAS HOSTED:</a:t>
            </a:r>
            <a:br>
              <a:rPr sz="3600"/>
            </a:b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LMT CUP 2005</a:t>
            </a:r>
            <a:br>
              <a:rPr sz="3600"/>
            </a:b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AB.LV CUP 2007</a:t>
            </a:r>
            <a:br>
              <a:rPr sz="3600"/>
            </a:b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VALMIERA CUP 2008</a:t>
            </a:r>
            <a:br>
              <a:rPr sz="3600"/>
            </a:b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3 NATIONAL CHAMPIONSHIP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6000"/>
                            </p:stCondLst>
                            <p:childTnLst>
                              <p:par>
                                <p:cTn id="4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80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Content Placeholder 4" descr="skupsts-fons.jpg"/>
          <p:cNvPicPr/>
          <p:nvPr/>
        </p:nvPicPr>
        <p:blipFill>
          <a:blip r:embed="rId1"/>
          <a:srcRect l="0" t="0" r="61074" b="0"/>
          <a:stretch/>
        </p:blipFill>
        <p:spPr>
          <a:xfrm>
            <a:off x="0" y="1865160"/>
            <a:ext cx="4572000" cy="49928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70c0"/>
                </a:solidFill>
                <a:latin typeface="Calibri"/>
              </a:rPr>
              <a:t>ORGANIZER: LATVIAN BALLOONING FEDE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504960" y="12189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- Hosted CIA meeting in Riga, 2002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4343400" y="2286000"/>
            <a:ext cx="4267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FAI sanctioned events in Latvi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- Baltic Cup’ 97, Sigul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- Baltic Cup’ 98 Sigul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4572000" y="3886200"/>
            <a:ext cx="3809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CONTACT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Latvijas Gaisa balonu sporta savienība</a:t>
            </a:r>
            <a:br>
              <a:rPr sz="2200"/>
            </a:b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Grostonas iela 6b, Rīga LV-101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hone: +371 611785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E-mail: </a:t>
            </a:r>
            <a:r>
              <a:rPr b="0" lang="lv-LV" sz="2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oktava@latnet.l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www.ballooning.l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Content Placeholder 5" descr="skupsts-bali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c00000"/>
                </a:solidFill>
                <a:latin typeface="Calibri"/>
              </a:rPr>
              <a:t>WE HOPE TO MEET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838080" y="57150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c00000"/>
                </a:solidFill>
                <a:latin typeface="Calibri"/>
              </a:rPr>
              <a:t>in LATVIA, Valmiera, May 21-29,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c00000"/>
                </a:solidFill>
                <a:latin typeface="Calibri"/>
              </a:rPr>
              <a:t>1st World Women Hot Air Balloon Champ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Content Placeholder 6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167616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70c0"/>
                </a:solidFill>
                <a:latin typeface="Calibri"/>
              </a:rPr>
              <a:t>LATVIA</a:t>
            </a:r>
            <a:br>
              <a:rPr sz="2000"/>
            </a:br>
            <a:br>
              <a:rPr sz="2000"/>
            </a:br>
            <a:r>
              <a:rPr b="1" lang="lv-LV" sz="1800" spc="-1" strike="noStrike" u="sng">
                <a:solidFill>
                  <a:srgbClr val="0070c0"/>
                </a:solidFill>
                <a:uFillTx/>
                <a:latin typeface="Calibri"/>
              </a:rPr>
              <a:t>Location</a:t>
            </a: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: </a:t>
            </a:r>
            <a:br>
              <a:rPr sz="1800"/>
            </a:b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NE Europe, at the Baltic  Sea, between Estonia and Lithuania, bordering Russia and Belorussia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Content Placeholder 9" descr="aaa.bmp"/>
          <p:cNvPicPr/>
          <p:nvPr/>
        </p:nvPicPr>
        <p:blipFill>
          <a:blip r:embed="rId2"/>
          <a:stretch/>
        </p:blipFill>
        <p:spPr>
          <a:xfrm>
            <a:off x="2286000" y="457200"/>
            <a:ext cx="6423120" cy="4495680"/>
          </a:xfrm>
          <a:prstGeom prst="rect">
            <a:avLst/>
          </a:prstGeom>
          <a:ln w="0">
            <a:noFill/>
          </a:ln>
        </p:spPr>
      </p:pic>
      <p:sp>
        <p:nvSpPr>
          <p:cNvPr id="54" name="TextBox 11"/>
          <p:cNvSpPr/>
          <p:nvPr/>
        </p:nvSpPr>
        <p:spPr>
          <a:xfrm>
            <a:off x="609480" y="51055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Population: 2,3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The capital – RIGA, ~800 000 inhabi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Local language: Latvia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Most popular foreign languages: English, Russian, Ger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Content Placeholder 6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70c0"/>
                </a:solidFill>
                <a:latin typeface="Calibri"/>
              </a:rPr>
              <a:t>DIRECT FLIGHTS TO RIG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Content Placeholder 9" descr="aaa.bmp"/>
          <p:cNvPicPr/>
          <p:nvPr/>
        </p:nvPicPr>
        <p:blipFill>
          <a:blip r:embed="rId2"/>
          <a:stretch/>
        </p:blipFill>
        <p:spPr>
          <a:xfrm>
            <a:off x="609480" y="1143000"/>
            <a:ext cx="7696440" cy="51386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Content Placeholder 5" descr="lvkarte.jpg"/>
          <p:cNvPicPr/>
          <p:nvPr/>
        </p:nvPicPr>
        <p:blipFill>
          <a:blip r:embed="rId2"/>
          <a:stretch/>
        </p:blipFill>
        <p:spPr>
          <a:xfrm>
            <a:off x="838080" y="1752480"/>
            <a:ext cx="7350120" cy="449604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70c0"/>
                </a:solidFill>
                <a:latin typeface="Calibri"/>
              </a:rPr>
              <a:t>VALMIERA</a:t>
            </a:r>
            <a:br>
              <a:rPr sz="1600"/>
            </a:br>
            <a:r>
              <a:rPr b="1" lang="lv-LV" sz="1600" spc="-1" strike="noStrike">
                <a:solidFill>
                  <a:srgbClr val="0070c0"/>
                </a:solidFill>
                <a:latin typeface="Calibri"/>
              </a:rPr>
              <a:t>www.valmiera.lv</a:t>
            </a:r>
            <a:br>
              <a:rPr sz="1600"/>
            </a:br>
            <a:r>
              <a:rPr b="1" lang="lv-LV" sz="2000" spc="-1" strike="noStrike">
                <a:solidFill>
                  <a:srgbClr val="0070c0"/>
                </a:solidFill>
                <a:latin typeface="Calibri"/>
              </a:rPr>
              <a:t>Location: 150 km NE from Riga                      Population: ~30 000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Content Placeholder 5" descr="lvkarte.jpg"/>
          <p:cNvPicPr/>
          <p:nvPr/>
        </p:nvPicPr>
        <p:blipFill>
          <a:blip r:embed="rId2"/>
          <a:stretch/>
        </p:blipFill>
        <p:spPr>
          <a:xfrm>
            <a:off x="1600200" y="533520"/>
            <a:ext cx="6400800" cy="60562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63" name="Oval 6"/>
          <p:cNvSpPr/>
          <p:nvPr/>
        </p:nvSpPr>
        <p:spPr>
          <a:xfrm>
            <a:off x="2819520" y="4191120"/>
            <a:ext cx="228600" cy="22860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11"/>
          <p:cNvSpPr/>
          <p:nvPr/>
        </p:nvSpPr>
        <p:spPr>
          <a:xfrm>
            <a:off x="609480" y="2590920"/>
            <a:ext cx="1905120" cy="685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Calibri"/>
              </a:rPr>
              <a:t>Competition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2"/>
          <p:cNvSpPr/>
          <p:nvPr/>
        </p:nvSpPr>
        <p:spPr>
          <a:xfrm>
            <a:off x="3048120" y="4343400"/>
            <a:ext cx="228600" cy="22860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ffffff"/>
                </a:solidFill>
                <a:latin typeface="Calibri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Straight Arrow Connector 14"/>
          <p:cNvCxnSpPr/>
          <p:nvPr/>
        </p:nvCxnSpPr>
        <p:spPr>
          <a:xfrm>
            <a:off x="2362320" y="3276720"/>
            <a:ext cx="457920" cy="915120"/>
          </a:xfrm>
          <a:prstGeom prst="straightConnector1">
            <a:avLst/>
          </a:prstGeom>
          <a:ln w="2844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67" name="Rounded Rectangle 15"/>
          <p:cNvSpPr/>
          <p:nvPr/>
        </p:nvSpPr>
        <p:spPr>
          <a:xfrm>
            <a:off x="3505320" y="5105520"/>
            <a:ext cx="2895480" cy="6094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Calibri"/>
              </a:rPr>
              <a:t>Hotel Naktsmājas - official ballooning  ho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Straight Arrow Connector 17"/>
          <p:cNvCxnSpPr>
            <a:endCxn id="65" idx="5"/>
          </p:cNvCxnSpPr>
          <p:nvPr/>
        </p:nvCxnSpPr>
        <p:spPr>
          <a:xfrm flipH="1" flipV="1">
            <a:off x="3242520" y="4537800"/>
            <a:ext cx="338760" cy="567720"/>
          </a:xfrm>
          <a:prstGeom prst="straightConnector1">
            <a:avLst/>
          </a:prstGeom>
          <a:ln w="2844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69" name="Rounded Rectangle 16"/>
          <p:cNvSpPr/>
          <p:nvPr/>
        </p:nvSpPr>
        <p:spPr>
          <a:xfrm>
            <a:off x="6629400" y="304920"/>
            <a:ext cx="2057400" cy="685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Calibri"/>
              </a:rPr>
              <a:t>2 km N to CLP - aerodr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Content Placeholder 5" descr="lvkarte.jpg"/>
          <p:cNvPicPr/>
          <p:nvPr/>
        </p:nvPicPr>
        <p:blipFill>
          <a:blip r:embed="rId1"/>
          <a:srcRect l="0" t="16050" r="0" b="186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71" name="Diagram 5" descr=""/>
          <p:cNvPicPr/>
          <p:nvPr/>
        </p:nvPicPr>
        <p:blipFill>
          <a:blip r:embed="rId2"/>
          <a:stretch/>
        </p:blipFill>
        <p:spPr>
          <a:xfrm>
            <a:off x="603360" y="573120"/>
            <a:ext cx="7718400" cy="56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ontent Placeholder 5" descr="22.07.2005 20-32-28_Uno.JPG"/>
          <p:cNvPicPr/>
          <p:nvPr/>
        </p:nvPicPr>
        <p:blipFill>
          <a:blip r:embed="rId1"/>
          <a:srcRect l="0" t="0" r="1133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533520" y="228600"/>
            <a:ext cx="54100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00"/>
                </a:solidFill>
                <a:latin typeface="Calibri"/>
              </a:rPr>
              <a:t>50 participants, 2 per count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00"/>
                </a:solidFill>
                <a:latin typeface="Calibri"/>
              </a:rPr>
              <a:t>Entry fee 300,-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9"/>
          <p:cNvSpPr/>
          <p:nvPr/>
        </p:nvSpPr>
        <p:spPr>
          <a:xfrm>
            <a:off x="5638680" y="838080"/>
            <a:ext cx="3505320" cy="3751560"/>
          </a:xfrm>
          <a:prstGeom prst="rect">
            <a:avLst/>
          </a:prstGeom>
          <a:solidFill>
            <a:srgbClr val="f4f1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ORGANIZERS PROVIDE</a:t>
            </a:r>
            <a:r>
              <a:rPr b="0" lang="lv-LV" sz="2400" spc="-1" strike="noStrike">
                <a:solidFill>
                  <a:srgbClr val="0070c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L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2 sets of printed maps + electronic 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morning coff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4 tickets per participant to soci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Opening and Award ceremon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pilot gift 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Content Placeholder 5" descr="lvkarte.jpg"/>
          <p:cNvPicPr/>
          <p:nvPr/>
        </p:nvPicPr>
        <p:blipFill>
          <a:blip r:embed="rId2"/>
          <a:stretch/>
        </p:blipFill>
        <p:spPr>
          <a:xfrm>
            <a:off x="533520" y="533520"/>
            <a:ext cx="4275000" cy="320652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0" y="380880"/>
            <a:ext cx="320040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COMPETITION CENTRE  - VIDZEMES OLIMPIC CENTRE:</a:t>
            </a:r>
            <a:br>
              <a:rPr sz="2400"/>
            </a:b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multifunctional hall with full office service</a:t>
            </a:r>
            <a:br>
              <a:rPr sz="2400"/>
            </a:b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large parking spo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7" descr="naktsmaja.jpg"/>
          <p:cNvPicPr/>
          <p:nvPr/>
        </p:nvPicPr>
        <p:blipFill>
          <a:blip r:embed="rId3"/>
          <a:stretch/>
        </p:blipFill>
        <p:spPr>
          <a:xfrm>
            <a:off x="4952880" y="4114800"/>
            <a:ext cx="3487680" cy="234324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79" name="TextBox 8"/>
          <p:cNvSpPr/>
          <p:nvPr/>
        </p:nvSpPr>
        <p:spPr>
          <a:xfrm>
            <a:off x="609480" y="4267080"/>
            <a:ext cx="3810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HOTEL NAKTSMĀJ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official ballooning ho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next to the Competition cen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39 rooms, single, double and 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70c0"/>
                </a:solidFill>
                <a:latin typeface="Calibri"/>
              </a:rPr>
              <a:t>ACCOMODATION IN VALMIE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In Valmier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3 hotel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14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9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3 guest-house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54  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15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7 youth hostel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518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46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 apartment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8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2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In Valmiera district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4 hotels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168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81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37 guest-house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809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265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5 country house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142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34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6 camping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01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35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1 youth hostel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7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10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1 apartment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09:16:59Z</dcterms:created>
  <dc:creator>ok</dc:creator>
  <dc:description/>
  <dc:language>en-US</dc:language>
  <cp:lastModifiedBy>ok</cp:lastModifiedBy>
  <dcterms:modified xsi:type="dcterms:W3CDTF">2009-03-11T17:34:01Z</dcterms:modified>
  <cp:revision>52</cp:revision>
  <dc:subject/>
  <dc:title>Slide 1</dc:title>
</cp:coreProperties>
</file>