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0387-DF22-475E-B0D2-CB1FE6591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oy totalmente de acuer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5A17-02F4-4BAB-B322-012222FA0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F743-7CD9-477F-AAD6-C961FA155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FF98-E35D-4DB6-847C-FDB6BCA71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FE04-491F-4964-89E7-7A11ED22B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DBE6-EB8D-42D2-9DFD-EA6D55D0F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C12E-997E-4D54-8FB0-E209AFDC8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77A3-CD0E-4698-B553-C0A61EA82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41AD-8895-4CFB-B00C-0A440582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BEC-DDF8-4A5A-AA14-5909DF91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8BE0-C43F-4298-97FE-7C0582A8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4DE-863D-448F-8964-B78E1C27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EA15-B30B-477E-9415-A28EC916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24CF-12BE-448D-BA8C-29A4EB92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954E-3700-4809-8779-5FEF152C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E18F-9715-4B38-992B-5B5802CE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FB66-1038-4651-A071-F21F74B1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5A0C-C982-487A-B544-3DC5C9A0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D24-6568-4E68-A4F5-C386F114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F7FC-AA3F-4E8D-93C6-0ABBB0D7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8D13-4EBF-461E-9737-5DADE0595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asm.org/FullMadridProgramwithAbstracts.pdf" TargetMode="External"/><Relationship Id="rId2" Type="http://schemas.openxmlformats.org/officeDocument/2006/relationships/hyperlink" Target="http://www.iaasm.org/FullMadridProgramwithAbstracts.pdf" TargetMode="External"/><Relationship Id="rId3" Type="http://schemas.openxmlformats.org/officeDocument/2006/relationships/hyperlink" Target="http://www.iaasm.org/FullMadridProgramwithAbstracts.pdf" TargetMode="External"/><Relationship Id="rId4" Type="http://schemas.openxmlformats.org/officeDocument/2006/relationships/hyperlink" Target="http://www.iaasm.org/FullMadridProgramwithAbstract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omento.es/NR/rdonlyres/2885E1B3-BCE3-4538-BE33-1F3D736667C6/41384/InformeULM2007.pdf accessed Aug 7,2009" TargetMode="External"/><Relationship Id="rId2" Type="http://schemas.openxmlformats.org/officeDocument/2006/relationships/hyperlink" Target="http://www.fomento.es/NR/rdonlyres/2885E1B3-BCE3-4538-BE33-1F3D736667C6/41384/InformeULM2007.pdf accessed Aug 7,2009" TargetMode="External"/><Relationship Id="rId3" Type="http://schemas.openxmlformats.org/officeDocument/2006/relationships/hyperlink" Target="http://www.fomento.es/NR/rdonlyres/2885E1B3-BCE3-4538-BE33-1F3D736667C6/41384/InformeULM2007.pdf accessed Aug 7,2009" TargetMode="External"/><Relationship Id="rId4" Type="http://schemas.openxmlformats.org/officeDocument/2006/relationships/hyperlink" Target="http://www.fomento.es/NR/rdonlyres/2885E1B3-BCE3-4538-BE33-1F3D736667C6/41384/InformeULM2007.pdf accessed Aug 7,2009" TargetMode="External"/><Relationship Id="rId5" Type="http://schemas.openxmlformats.org/officeDocument/2006/relationships/hyperlink" Target="http://www.fomento.es/NR/rdonlyres/2885E1B3-BCE3-4538-BE33-1F3D736667C6/41384/InformeULM2007.pdf accessed Aug 7,2009" TargetMode="External"/><Relationship Id="rId6" Type="http://schemas.openxmlformats.org/officeDocument/2006/relationships/hyperlink" Target="http://www.fomento.es/NR/rdonlyres/2885E1B3-BCE3-4538-BE33-1F3D736667C6/41384/InformeULM2007.pdf accessed Aug 7,2009" TargetMode="External"/><Relationship Id="rId7" Type="http://schemas.openxmlformats.org/officeDocument/2006/relationships/hyperlink" Target="http://www.fomento.es/NR/rdonlyres/2885E1B3-BCE3-4538-BE33-1F3D736667C6/41384/InformeULM2007.pdf accessed Aug 7,2009" TargetMode="External"/><Relationship Id="rId8" Type="http://schemas.openxmlformats.org/officeDocument/2006/relationships/hyperlink" Target="http://www.fomento.es/NR/rdonlyres/2885E1B3-BCE3-4538-BE33-1F3D736667C6/41384/InformeULM2007.pdf accessed Aug 7,2009" TargetMode="External"/><Relationship Id="rId9" Type="http://schemas.openxmlformats.org/officeDocument/2006/relationships/hyperlink" Target="http://www.fomento.es/NR/rdonlyres/2885E1B3-BCE3-4538-BE33-1F3D736667C6/41384/InformeULM2007.pdf accessed Aug 7,2009" TargetMode="External"/><Relationship Id="rId10" Type="http://schemas.openxmlformats.org/officeDocument/2006/relationships/hyperlink" Target="http://www.fomento.es/NR/rdonlyres/2885E1B3-BCE3-4538-BE33-1F3D736667C6/41384/InformeULM2007.pdf accessed Aug 7,2009" TargetMode="External"/><Relationship Id="rId11" Type="http://schemas.openxmlformats.org/officeDocument/2006/relationships/hyperlink" Target="http://www.fomento.es/NR/rdonlyres/2885E1B3-BCE3-4538-BE33-1F3D736667C6/41384/InformeULM2007.pdf accessed Aug 7,2009" TargetMode="External"/><Relationship Id="rId12" Type="http://schemas.openxmlformats.org/officeDocument/2006/relationships/hyperlink" Target="http://www.fomento.es/NR/rdonlyres/2885E1B3-BCE3-4538-BE33-1F3D736667C6/41384/InformeULM2007.pdf accessed Aug 7,2009" TargetMode="External"/><Relationship Id="rId13" Type="http://schemas.openxmlformats.org/officeDocument/2006/relationships/hyperlink" Target="http://www.fomento.es/NR/rdonlyres/2885E1B3-BCE3-4538-BE33-1F3D736667C6/41384/InformeULM2007.pdf accessed Aug 7,2009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525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aring ULM 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Microlight)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tion and accidentology in two EU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3958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 Ortiz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ain Delegate FAI-C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I-CIMP Conference Zagreb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6134040" y="476280"/>
            <a:ext cx="247032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 it seems to be the case in Gliding*, the level of medical requirements for the pilots seems not to correlate with the achieved safety in U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raw data to gain evidence exist and are nowadays easier to obtain, but they are difficult to process statistically due to the differences in accident reporting and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 is suggested to perform analysis from the descriptions / basic data and not from the interpretations of the different national bo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623736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*Ortiz P, Panel 19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ir Sports Medicine Médecine des sports aérien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ICASM Madrid 2001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aasm.or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ullMadridProgramwithAbstracts.pdf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accessed Aug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Thanks !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Hva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24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ort license requires an initial medical certificate stating absenc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eight – height de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diovascular illnesses causing alteration of left ejection fraction and/or rythm at effort or a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olutionary pleuro pulmonary le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vere morphological static and/or dynamic alterations, particularly in dorso-lumbar vertebral column with risk of acute pathology or accelerated w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pilepsy, loss of consciousness, vertigo, equilibrium al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Law 99-223, 23 march 1999, Art. 5 on health of sport and fight against d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Code de Santé Publique (Art. L.3622-1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5084640"/>
            <a:ext cx="8209080" cy="132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not an aviation medical examination: all doctor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will make a decision on the cases were a pathology is present and the candidate asks fo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AA FCL Clas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GAC, Orden ORDEN FOM/1267/2008 de 28 de abril (BOE 110, 6 May 2008)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5084640"/>
            <a:ext cx="8352000" cy="70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an aviation medical examination: only authrised AME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have no official role to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73640" cy="39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Spa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557360"/>
          <a:ext cx="4753080" cy="3881520"/>
        </p:xfrm>
        <a:graphic>
          <a:graphicData uri="http://schemas.openxmlformats.org/drawingml/2006/table">
            <a:tbl>
              <a:tblPr/>
              <a:tblGrid>
                <a:gridCol w="4227480"/>
                <a:gridCol w="52560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psychological (stress, excess of conf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 /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: systems failure/disfunctionning including po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249"/>
          <p:cNvSpPr/>
          <p:nvPr/>
        </p:nvSpPr>
        <p:spPr>
          <a:xfrm>
            <a:off x="468360" y="5805360"/>
            <a:ext cx="8280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dapted from : Min Fomento CIAIAC: Accidentalidad de ULM en España durante el año 2007 CIAIC ULM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http://www.fomento.es/NR/rdonlyres/2885E1B3-BCE3-4538-BE33-1F3D736667C6/41384/InformeULM2007.pdf accessed Aug 7,2009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7"/>
          <p:cNvSpPr/>
          <p:nvPr/>
        </p:nvSpPr>
        <p:spPr>
          <a:xfrm>
            <a:off x="7236000" y="2205000"/>
            <a:ext cx="1512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9"/>
          <p:cNvSpPr/>
          <p:nvPr/>
        </p:nvSpPr>
        <p:spPr>
          <a:xfrm>
            <a:off x="6156360" y="321300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0"/>
          <p:cNvSpPr/>
          <p:nvPr/>
        </p:nvSpPr>
        <p:spPr>
          <a:xfrm>
            <a:off x="6156360" y="2637000"/>
            <a:ext cx="720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2"/>
          <p:cNvSpPr/>
          <p:nvPr/>
        </p:nvSpPr>
        <p:spPr>
          <a:xfrm flipV="1">
            <a:off x="6156360" y="49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5"/>
          <p:cNvSpPr/>
          <p:nvPr/>
        </p:nvSpPr>
        <p:spPr>
          <a:xfrm>
            <a:off x="6227640" y="515772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6"/>
          <p:cNvSpPr/>
          <p:nvPr/>
        </p:nvSpPr>
        <p:spPr>
          <a:xfrm>
            <a:off x="6227640" y="39243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7"/>
          <p:cNvSpPr/>
          <p:nvPr/>
        </p:nvSpPr>
        <p:spPr>
          <a:xfrm>
            <a:off x="615636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8"/>
          <p:cNvSpPr/>
          <p:nvPr/>
        </p:nvSpPr>
        <p:spPr>
          <a:xfrm flipV="1">
            <a:off x="6156360" y="4436640"/>
            <a:ext cx="287280" cy="716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Fra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68360" y="1197000"/>
          <a:ext cx="3672000" cy="3508200"/>
        </p:xfrm>
        <a:graphic>
          <a:graphicData uri="http://schemas.openxmlformats.org/drawingml/2006/table">
            <a:tbl>
              <a:tblPr/>
              <a:tblGrid>
                <a:gridCol w="2846520"/>
                <a:gridCol w="825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behaviour,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skills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me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external 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45"/>
          <p:cNvSpPr/>
          <p:nvPr/>
        </p:nvSpPr>
        <p:spPr>
          <a:xfrm>
            <a:off x="6948360" y="1773360"/>
            <a:ext cx="1513080" cy="28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2"/>
          <p:cNvSpPr/>
          <p:nvPr/>
        </p:nvSpPr>
        <p:spPr>
          <a:xfrm>
            <a:off x="5940360" y="184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3"/>
          <p:cNvSpPr/>
          <p:nvPr/>
        </p:nvSpPr>
        <p:spPr>
          <a:xfrm>
            <a:off x="5940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4"/>
          <p:cNvSpPr/>
          <p:nvPr/>
        </p:nvSpPr>
        <p:spPr>
          <a:xfrm>
            <a:off x="594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5"/>
          <p:cNvSpPr/>
          <p:nvPr/>
        </p:nvSpPr>
        <p:spPr>
          <a:xfrm flipV="1">
            <a:off x="5940360" y="3715920"/>
            <a:ext cx="287280" cy="73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4"/>
          <p:cNvSpPr/>
          <p:nvPr/>
        </p:nvSpPr>
        <p:spPr>
          <a:xfrm>
            <a:off x="250920" y="6010200"/>
            <a:ext cx="8713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dapted from: FFPULM  Mémo Sécurité du pilote ULM Ed. 10/2008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http://www.ffplum.com/Images/Upload/Securite/Annee%202008/MEMO%20SECURITE%202008_.pdf accessed Aug7, 2009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5"/>
          <p:cNvSpPr/>
          <p:nvPr/>
        </p:nvSpPr>
        <p:spPr>
          <a:xfrm flipV="1">
            <a:off x="5940360" y="4365720"/>
            <a:ext cx="287280" cy="712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9120" y="981000"/>
          <a:ext cx="8229600" cy="3354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14240"/>
                <a:gridCol w="1622520"/>
                <a:gridCol w="170028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registered ULM aircrafts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ed acci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35"/>
          <p:cNvSpPr/>
          <p:nvPr/>
        </p:nvSpPr>
        <p:spPr>
          <a:xfrm>
            <a:off x="395280" y="479736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pain: Min Fomento CIAIAC: Accidentalidad de ULM en España durante el año 2007 CIAIC U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omento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NR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donlyr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885E1B3-BCE3-4538-BE33-1F3D736667C6/41384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rmeULM2007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df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ccessed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u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rance: Bureau Enquètes et Analyses  / http://www.bea.aero/etudes/securite2007/securite2007.html accessed Aug 7, 2009  and Aviation Civile / Aviation légère / Vol moteur ULM (secteur associatif) / http://www.aviation-civile.gouv.fr/html/avia_leg/statistiques/oac_stat2007_ulm.pdf accessed Aug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 / Aircraf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557360"/>
          <a:ext cx="6264360" cy="4032360"/>
        </p:xfrm>
        <a:graphic>
          <a:graphicData uri="http://schemas.openxmlformats.org/drawingml/2006/table">
            <a:tbl>
              <a:tblPr/>
              <a:tblGrid>
                <a:gridCol w="2089080"/>
                <a:gridCol w="2086200"/>
                <a:gridCol w="2089080"/>
              </a:tblGrid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ident / Aircraf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ugh the limitations in the methodology and statistical approach, it seems that different regulatory approaches only result in number of participants and not in th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iation authorities apply different analysis methodologies in EU; Eventually EASA might bring a  coordina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33:19Z</dcterms:created>
  <dc:creator>PEDRO.ORTIZ</dc:creator>
  <dc:description/>
  <dc:language>en-US</dc:language>
  <cp:lastModifiedBy>Fustis</cp:lastModifiedBy>
  <dcterms:modified xsi:type="dcterms:W3CDTF">2014-05-03T11:11:36Z</dcterms:modified>
  <cp:revision>47</cp:revision>
  <dc:subject/>
  <dc:title>Thoughts on ULM regulation and accidentology </dc:title>
</cp:coreProperties>
</file>