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EC2D-7C81-4592-AE1B-66937BBD0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460A-F486-4318-8774-62CFB6E73D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381A1-33D6-4138-ABD9-0C9DABA9F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B722-DA4A-4057-86E5-193355D5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ACA2B-1D56-46C8-9AAF-364C95762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67B2-43A9-4999-9D36-C61C592D4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C9CF-48F2-4FA4-B1E6-41F63E7D8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587A-250A-494D-865F-10B053377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4EE4-EF15-45BD-AB31-1D05F823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37BBC-409D-409B-9AE2-C237C3B0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3CCB5-01AA-4802-A98D-5110B8CC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AB07-3709-4DBD-80C0-42824CFC7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B3F5-454D-4E8A-8FB0-05DF5174A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DBA6-2693-47FF-9E74-8DE93755D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7EC5-B34C-4CA7-9325-79D13C7D92FF}"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869-C9FE-4D56-AA0E-692FE7483091}"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3F36E67D-1399-4644-A6A1-8DCB5A8D6AA8}" type="datetime">
              <a:rPr b="1" lang="fr-FR" sz="1200" spc="-1" strike="noStrike">
                <a:solidFill>
                  <a:srgbClr val="000000"/>
                </a:solidFill>
                <a:latin typeface="Arial"/>
              </a:rPr>
              <a:t>30/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