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D357-F233-4092-B1A1-5AD824F13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DBB9-BE39-4BB4-891B-1A8357DC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A5C4-1167-44FC-B7C9-FCA761370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FB91-B892-4B32-BDD6-F76A4885F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0146-20E9-4F3C-955E-F4FF06D6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D7D2-6608-4B55-A157-95CF7DC5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90E5-6C6B-421C-8881-3525EF27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A468-BE87-485B-9163-404A22E8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2A9E-B766-4EDD-B3C3-0CAA3E811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4F70-24EF-497C-BD45-556E4450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8DD3-CE9B-4E14-A618-EEBB77CB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1B86-4850-40FF-8E16-62A3AE69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6913-4E35-4538-93EE-7EFA2D0AFB9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ada-bonn.de/" TargetMode="External"/><Relationship Id="rId2" Type="http://schemas.openxmlformats.org/officeDocument/2006/relationships/hyperlink" Target="http://www.nadamed.de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74872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FAI Anti-Doping in Airsports 2013</a:t>
            </a:r>
            <a:br>
              <a:rPr sz="4000"/>
            </a:br>
            <a:br>
              <a:rPr sz="4000"/>
            </a:b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-Aspects of the WADA Policy</a:t>
            </a:r>
            <a:br>
              <a:rPr sz="2800"/>
            </a:b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-How do I find Info about forbidden medication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99640" y="4508640"/>
            <a:ext cx="7272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Juergen K Knuep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sident FAI Medico-Physiological Com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/ Taschenk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nhaltsplatzhalter 10" descr="NADA TK 2013 b 001.jpg"/>
          <p:cNvPicPr/>
          <p:nvPr/>
        </p:nvPicPr>
        <p:blipFill>
          <a:blip r:embed="rId1"/>
          <a:stretch/>
        </p:blipFill>
        <p:spPr>
          <a:xfrm>
            <a:off x="297000" y="957240"/>
            <a:ext cx="3987720" cy="5567400"/>
          </a:xfrm>
          <a:prstGeom prst="rect">
            <a:avLst/>
          </a:prstGeom>
          <a:ln w="0">
            <a:noFill/>
          </a:ln>
        </p:spPr>
      </p:pic>
      <p:pic>
        <p:nvPicPr>
          <p:cNvPr id="64" name="Inhaltsplatzhalter 11" descr="NADA TK 2013.jpg"/>
          <p:cNvPicPr/>
          <p:nvPr/>
        </p:nvPicPr>
        <p:blipFill>
          <a:blip r:embed="rId2"/>
          <a:stretch/>
        </p:blipFill>
        <p:spPr>
          <a:xfrm>
            <a:off x="4572000" y="936720"/>
            <a:ext cx="4321080" cy="57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4284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124000" y="981000"/>
            <a:ext cx="48974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ff"/>
                </a:solidFill>
                <a:latin typeface="Arial"/>
              </a:rPr>
              <a:t>Comments,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600" spc="-1" strike="noStrike">
                <a:solidFill>
                  <a:srgbClr val="3333ff"/>
                </a:solidFill>
                <a:latin typeface="Arial"/>
              </a:rPr>
              <a:t>?       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6164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147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asic WADA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4316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lympic Committee, UNESC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overnments, NADO, Intern. Fed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Doping Fre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Spor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rovide a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Doping free Competition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Health 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rict Liability RULE 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gt;&gt;&gt; Athletes, Trainer,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EGAL IMPLICATIONS: “Club Contract“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 national law applied! – CAS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(Abrbitrat. Cou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bserve Princi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try to use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common sense !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ad and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understand: WADA COD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ll Sports are treated equally!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o Exemptions granted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0" y="1628280"/>
            <a:ext cx="4392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PLIANCE: otherwise no support, no subsid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 champ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All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thletes are basically tested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for all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he same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nciple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-Competition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UT of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RGET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TP: Registered Test Pool (1/7/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sk Assessmen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. Reputation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. Price-Money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. Known Drug Us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. Options for Perform. Enha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146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Basic WADA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316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ping Free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Spor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ping free Competition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rict Liability RULE“ 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(keine Unschuldsvermutung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No national law a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ll Sports are treated eq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1280" y="1628280"/>
            <a:ext cx="4392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thletes are tested </a:t>
            </a: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ll for the same substanc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o Exemptions grant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ll have to sign “COMPLIANCE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therwise no support, no subsi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ciple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N-Competition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UT of Competition (RTP 1/7/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ARGET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Points to think ab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thlete´s Intention to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i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se of options for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creasing pre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ilitary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Aviatio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istory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Stimu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ttitud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of seniors and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ifferenc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in Spor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i.e.  Golf vs Cyc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ritique on Web: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uman Rights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ADA System in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mmon Sense“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What to do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425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M,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ti Dopi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mmiss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(5/electe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ear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(3 /lawj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Secretariat &gt;&gt;&gt; </a:t>
            </a: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ADMIN only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t. Fed. Anti Doping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U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P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AMS 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oper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B-Info Page (www.WADA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3280" y="162864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ai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a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vent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rld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blem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gistered Test P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ot Spots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erience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ssign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op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ney,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&amp;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ADO Con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Strategic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wareness of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ad th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WADA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lect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competent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Develop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specific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ederation AD-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ways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suppor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Ath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mprov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At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Information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/ Taschenk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nhaltsplatzhalter 10" descr="NADA TK 2013 b 001.jpg"/>
          <p:cNvPicPr/>
          <p:nvPr/>
        </p:nvPicPr>
        <p:blipFill>
          <a:blip r:embed="rId1"/>
          <a:stretch/>
        </p:blipFill>
        <p:spPr>
          <a:xfrm>
            <a:off x="297000" y="957240"/>
            <a:ext cx="3987720" cy="5567400"/>
          </a:xfrm>
          <a:prstGeom prst="rect">
            <a:avLst/>
          </a:prstGeom>
          <a:ln w="0">
            <a:noFill/>
          </a:ln>
        </p:spPr>
      </p:pic>
      <p:pic>
        <p:nvPicPr>
          <p:cNvPr id="59" name="Inhaltsplatzhalter 11" descr="NADA TK 2013.jpg"/>
          <p:cNvPicPr/>
          <p:nvPr/>
        </p:nvPicPr>
        <p:blipFill>
          <a:blip r:embed="rId2"/>
          <a:stretch/>
        </p:blipFill>
        <p:spPr>
          <a:xfrm>
            <a:off x="4572000" y="936720"/>
            <a:ext cx="4321080" cy="57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993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000000"/>
                </a:solidFill>
                <a:uFillTx/>
                <a:latin typeface="Arial"/>
              </a:rPr>
              <a:t>i.e.: References German NADA </a:t>
            </a:r>
            <a:br>
              <a:rPr sz="4000"/>
            </a:b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0228 / 812 92  1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Prohibited List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german / engl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nada-bonn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Medication-Data-Bank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–onlin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nadamed.d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auch Iphone-Ap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Taschenk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7:48:11Z</dcterms:created>
  <dc:creator>Fustis</dc:creator>
  <dc:description/>
  <dc:language>en-US</dc:language>
  <cp:lastModifiedBy>Fustis</cp:lastModifiedBy>
  <dcterms:modified xsi:type="dcterms:W3CDTF">2014-05-08T09:15:36Z</dcterms:modified>
  <cp:revision>38</cp:revision>
  <dc:subject/>
  <dc:title>World Anti Doping ISSUES  2012</dc:title>
</cp:coreProperties>
</file>