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9F2C-4DCA-4AAB-B357-8470D7C395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44AD-3DA3-4AA5-87C2-6914B473A7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AF48-E055-4D4B-B3B3-62D378353D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proper disclosure of internal working documents &amp; discu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1B37-BAB2-463F-8B9E-19B8EEEB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30D-1ED5-45DB-BFAC-8F311380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00D-4083-4842-A6BC-8398907D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484-4BAA-4517-891C-D9AF63CE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2E7-0818-44DD-896D-9861BD4D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143-01D9-4A7D-B246-C2C70603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F51-E25C-4204-826E-B74E59C3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A03A-3B10-4E3D-85D4-E5F8623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CD3-117E-4B7C-AA76-792C0670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3F8-1134-49C1-8841-5E2F418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5AF-BF4B-4F43-A660-A0A5C2EC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D9F-52E9-42B5-9C20-22692ABC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A1ED-D51B-4A47-9211-B1B1CA744A94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419D-8724-40B0-8ADA-5EAE2FF38026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DCF624CE-6795-4DBC-981D-51FB242DF861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Status 2014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Flexibility in Oxygen Rules 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(EASA)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EAS: “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Drivers Licence“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 Pilot Medica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-Current Issues to decide on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WADA request paper: 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Juergen K Knueppel,  MD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President 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5"/>
          <p:cNvSpPr/>
          <p:nvPr/>
        </p:nvSpPr>
        <p:spPr>
          <a:xfrm>
            <a:off x="7772400" y="6553080"/>
            <a:ext cx="206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F769-43B3-4083-A610-BC19F0253841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955332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Eurostile"/>
              </a:rPr>
              <a:t>Practical recommendation</a:t>
            </a: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to Federations FAI Anti-Doping Work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Eurostile"/>
              </a:rPr>
              <a:t> </a:t>
            </a:r>
            <a:r>
              <a:rPr b="1" lang="en-US" sz="2800" spc="-1" strike="noStrike">
                <a:solidFill>
                  <a:srgbClr val="e60c7e"/>
                </a:solidFill>
                <a:latin typeface="Eurostile"/>
              </a:rPr>
              <a:t>Where are we? – What to improve?</a:t>
            </a:r>
            <a:endParaRPr b="0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52280" y="1065240"/>
            <a:ext cx="975384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2880" y="1413000"/>
            <a:ext cx="936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s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Anti Doping Manag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Federation Board Membe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ontact to WADA, Sport Accord, NADO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Eurostile"/>
                <a:ea typeface="MS Gothic"/>
              </a:rPr>
              <a:t>(National Anti-Doping Organization)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&gt; </a:t>
            </a:r>
            <a:r>
              <a:rPr b="0" i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how rules &amp; violations get handled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Leg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Medical Advisor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Proactive Training, Ambassadors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Anti Doping-PR, Presentations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&gt; </a:t>
            </a:r>
            <a:r>
              <a:rPr b="1" lang="en-GB" sz="2200" spc="-1" strike="noStrike">
                <a:solidFill>
                  <a:srgbClr val="e60c7e"/>
                </a:solidFill>
                <a:latin typeface="Eurostile"/>
                <a:ea typeface="MS Gothic"/>
              </a:rPr>
              <a:t>Competent Person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Immediate Contact to FAI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(when a “</a:t>
            </a:r>
            <a:r>
              <a:rPr b="1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Case”</a:t>
            </a:r>
            <a:r>
              <a:rPr b="0" lang="en-GB" sz="2200" spc="-1" strike="noStrike">
                <a:solidFill>
                  <a:srgbClr val="000000"/>
                </a:solidFill>
                <a:latin typeface="Eurostile"/>
                <a:ea typeface="MS Gothic"/>
              </a:rPr>
              <a:t> is open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olu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0:53:51Z</dcterms:modified>
  <cp:revision>585</cp:revision>
  <dc:subject/>
  <dc:title>Présentation PowerPoint</dc:title>
</cp:coreProperties>
</file>