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42F1-6779-41ED-9AAB-F8F5021607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9768-39F6-4554-AFCB-E75E337D93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514-B1AE-4438-B6B4-082B23D0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290-FD08-4BF3-9D8B-99DACA6B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56F-952B-4D5B-92EF-56B7E291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364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2720" y="144756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56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7364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2720" y="387540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F6A-4D77-4876-9D00-F9847AFA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7566-62F2-4C5F-8AFA-DB17F72C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11D-F543-46DB-91EE-5FCE2D65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F15-3208-49C7-8B53-A54323C3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C42-F615-4BD0-A524-2AD79EC5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95E-253A-48BA-9635-5AAF3E05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2CA-8B52-4C79-BD47-78D3B6E9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07320" y="387540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256-F1C8-48BD-9469-CBE77AC3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07320" y="144756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560" y="387540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F76-0454-4578-9955-BFF3BC8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4756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C3E8-5B81-4ABB-AFB5-28006FAFB5E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F60A-9537-49A5-870B-9654729E94B7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520" y="4508280"/>
            <a:ext cx="951696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Eurostile"/>
              </a:rPr>
              <a:t>Juergen K Knueppel MD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Eurostile"/>
              </a:rPr>
              <a:t>FAI-CIMP Issues  </a:t>
            </a:r>
            <a:r>
              <a:rPr b="0" lang="de-DE" sz="40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Eurostile"/>
              </a:rPr>
              <a:t>-commission internationale medico physiologique-</a:t>
            </a:r>
            <a:endParaRPr b="0" lang="en-US" sz="1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9800" y="1052280"/>
            <a:ext cx="94042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Flight Safety Data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Human Factors, Request for competent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Accident Investigation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Advise to Commissions,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ICAO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Proactive Flight Safty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 Initiativ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 TUE Pannel  -  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necessary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Eurostile"/>
              </a:rPr>
              <a:t>“Doping“ waivor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oblem:(“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older”) athletes taking already for year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quired medicine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Answe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Eurostile"/>
              </a:rPr>
              <a:t>related questions</a:t>
            </a:r>
            <a:r>
              <a:rPr b="0" lang="en-GB" sz="2000" spc="-1" strike="noStrike">
                <a:solidFill>
                  <a:srgbClr val="000000"/>
                </a:solidFill>
                <a:latin typeface="Eurostile"/>
              </a:rPr>
              <a:t> anytime 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572760" indent="-572760">
              <a:spcBef>
                <a:spcPts val="799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IMP: Medical and Physiological expertise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300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EASA,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Medical Licencing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Sporting Licence (FAA-SPL ?), </a:t>
            </a:r>
            <a:r>
              <a:rPr b="0" lang="de-DE" sz="1200" spc="-1" strike="noStrike">
                <a:solidFill>
                  <a:srgbClr val="000000"/>
                </a:solidFill>
                <a:latin typeface="Eurostile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Eurostile"/>
            </a:endParaRPr>
          </a:p>
          <a:p>
            <a:pPr lvl="2" marL="1414440" indent="-429480">
              <a:spcBef>
                <a:spcPts val="499"/>
              </a:spcBef>
              <a:buClr>
                <a:srgbClr val="000000"/>
              </a:buClr>
              <a:buFont typeface="Eurosti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0000"/>
                </a:solidFill>
                <a:uFillTx/>
                <a:latin typeface="Eurostile"/>
              </a:rPr>
              <a:t>Support</a:t>
            </a: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, i.e. G-Forces, Oxygen, Emergency Plans, CISM, other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09:05:47Z</dcterms:modified>
  <cp:revision>484</cp:revision>
  <dc:subject/>
  <dc:title>Présentation PowerPoint</dc:title>
</cp:coreProperties>
</file>