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1CEE-75A3-46E1-8628-735ACD08558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D1F5-69E6-4A68-B95B-363DD92334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817B-474E-46E8-971A-E5EEEF8E6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BFA0-C746-4EE2-9732-68EDB112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4A7A-D069-42B8-8E8D-5FCF32C20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7364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4272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7364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4272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5457-9FAD-4243-9097-7B2852FB8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CE7F-64D2-4A71-9E9E-B0F3517D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E364-BF91-4DBA-B135-7E3BFB72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1BBD-2342-47AE-A4A6-4FE39E48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AA1E-A0E7-4A56-AF62-42A989AB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4AFC-0F9F-4A8C-A861-55C3EFE1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86DD-D3A7-4476-9350-CE2B4A35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BA0A-EF41-4CFB-A3D0-EB0E8676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D611-D800-4B26-B721-D79287E3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205D-C5C4-498B-839E-213CD88D2E79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1DF4-F1DE-47C7-8FB7-0CABDD6404B5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520" y="4508280"/>
            <a:ext cx="951696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br>
              <a:rPr sz="4400"/>
            </a:br>
            <a:br>
              <a:rPr sz="4400"/>
            </a:br>
            <a:r>
              <a:rPr b="0" lang="fr-FR" sz="3200" spc="-1" strike="noStrike">
                <a:solidFill>
                  <a:srgbClr val="000000"/>
                </a:solidFill>
                <a:latin typeface="Eurostile"/>
              </a:rPr>
              <a:t>Juergen K Knueppel MD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Eurostile"/>
              </a:rPr>
              <a:t>FAI-CIMP Issues  </a:t>
            </a:r>
            <a:r>
              <a:rPr b="0" lang="de-DE" sz="4000" spc="-1" strike="noStrike">
                <a:solidFill>
                  <a:srgbClr val="000000"/>
                </a:solidFill>
                <a:latin typeface="Eurostile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Eurostile"/>
              </a:rPr>
              <a:t>-commission internationale medico physiologique-</a:t>
            </a:r>
            <a:endParaRPr b="0" lang="en-US" sz="16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9800" y="1052280"/>
            <a:ext cx="940428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Flight Safety Data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Human Factors, Request for competent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Accident Investigation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Advise to Commissions,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ICAO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Proactive Flight Safty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 Initiativ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 TUE Pannel  -  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necessary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Eurostile"/>
              </a:rPr>
              <a:t>“Doping“ waivor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oblem:(“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older”) athletes taking already for year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quired medicine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Answer an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lated questions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 anytim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: Medical and Physiological expertise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300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EASA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Medical Licencing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Sporting Licence (FAA-SPL ?), </a:t>
            </a:r>
            <a:r>
              <a:rPr b="0" lang="de-DE" sz="1200" spc="-1" strike="noStrike">
                <a:solidFill>
                  <a:srgbClr val="000000"/>
                </a:solidFill>
                <a:latin typeface="Eurostile"/>
              </a:rPr>
              <a:t>Beta Blockers</a:t>
            </a:r>
            <a:endParaRPr b="0" lang="en-US" sz="1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Support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i.e. G-Forces, Oxygen, Emergency Plans, CISM, other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09:05:47Z</dcterms:modified>
  <cp:revision>484</cp:revision>
  <dc:subject/>
  <dc:title>Présentation PowerPoint</dc:title>
</cp:coreProperties>
</file>