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D993-90E3-4D99-AABE-754AE32F189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600C-1F82-4E9F-918C-A1E20A40653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95A9-AB09-47E3-B1B5-A0DC91B63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A273-D7B3-46C6-8FB3-E33CF1AF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7087-D107-4FC2-AEE8-80F06090D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60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1068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252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60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1068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539B-DF9B-41A9-8550-958D3C8CF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1AF8-CB21-4DDC-A01F-C39F5D20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2990-871A-4F7D-AE8F-E34DF66B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9ED2-1151-4CB8-8E19-99403BB7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BCE2-F368-4B69-99E8-939AA928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EA45-8A43-4280-94C8-7D24C82F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7332-CB1D-4076-85B0-36BB18E5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D4C5-044D-4FC8-B44B-29990339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11EB-BAB3-46E4-B95A-76F2D969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92EB-5254-4D38-937C-107092C300F6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D910-A443-4BC0-BB2C-F607A40E6F7F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  <p:sp>
        <p:nvSpPr>
          <p:cNvPr id="8" name="Espace réservé de la date 3"/>
          <p:cNvSpPr/>
          <p:nvPr/>
        </p:nvSpPr>
        <p:spPr>
          <a:xfrm>
            <a:off x="0" y="6629400"/>
            <a:ext cx="206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K</a:t>
            </a:r>
            <a:fld id="{84AE6A6F-AA78-4AF9-A460-6B06A0842346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2520" y="487800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4" name="Picture 4" descr="logo_cimp_01_cmyk (300-15)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3956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 u="sng">
                <a:solidFill>
                  <a:srgbClr val="000000"/>
                </a:solidFill>
                <a:uFillTx/>
                <a:latin typeface="Eurostile"/>
              </a:rPr>
              <a:t>FAI   -   CIMP</a:t>
            </a:r>
            <a:endParaRPr b="0" lang="en-US" sz="6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2421000"/>
            <a:ext cx="9372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Eurostile"/>
              </a:rPr>
              <a:t>Physiological Stresses in Air-Sports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, various Discipline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First Draft Opinion 05/2014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FAI CIMP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520" y="260280"/>
            <a:ext cx="9487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urostile"/>
              </a:rPr>
              <a:t>Flight Stresses in Sports-Aviation  </a:t>
            </a:r>
            <a:r>
              <a:rPr b="0" lang="en-GB" sz="1400" spc="-1" strike="noStrike">
                <a:solidFill>
                  <a:srgbClr val="000000"/>
                </a:solidFill>
                <a:latin typeface="Eurostile"/>
              </a:rPr>
              <a:t>(FAICIMP first draft opinion 052014)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990612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 =min / 5= max     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ACRO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odeli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Ballon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lidng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aG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icro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Chu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eli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Eurostile"/>
              </a:rPr>
              <a:t>"Stresses"</a:t>
            </a:r>
            <a:r>
              <a:rPr b="0" i="1" lang="de-DE" sz="1000" spc="-1" strike="noStrike" u="sng">
                <a:solidFill>
                  <a:srgbClr val="000000"/>
                </a:solidFill>
                <a:uFillTx/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ental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Nutrition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hronoBio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OrientationalStr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recisionCoor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uscleForce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-Forces 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8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ardio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9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ExtremeTemp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0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VisualPerform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baricCon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xi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72520" y="691920"/>
            <a:ext cx="96332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Thank You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 for your attention !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omment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ugg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- Approach CIMP for INFO exchange -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24160" y="1268280"/>
            <a:ext cx="5400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11:15:45Z</dcterms:modified>
  <cp:revision>586</cp:revision>
  <dc:subject/>
  <dc:title>Présentation PowerPoint</dc:title>
</cp:coreProperties>
</file>