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907588" cy="6858000"/>
  <p:notesSz cx="9932988" cy="6792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932400" cy="679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562716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3125520" y="509400"/>
            <a:ext cx="3679560" cy="2547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Eurostile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1324080" y="3227040"/>
            <a:ext cx="7283520" cy="30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-360" y="645480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5627160" y="645480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A6228-7072-4BF4-A7AA-9FD788B8F81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7"/>
          <p:cNvSpPr/>
          <p:nvPr/>
        </p:nvSpPr>
        <p:spPr>
          <a:xfrm>
            <a:off x="5627520" y="645480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51B6F-0BF8-404E-B284-F1895A6B660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3125880" y="509760"/>
            <a:ext cx="3679560" cy="254772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1324080" y="3227040"/>
            <a:ext cx="7283520" cy="30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gfdngfdng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2E72E-D539-4F08-9823-8D569F098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72520" y="1412640"/>
            <a:ext cx="93726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72520" y="3840480"/>
            <a:ext cx="93726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F8766-5202-44E8-A306-134B00327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72520" y="141264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75280" y="141264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72520" y="384048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075280" y="384048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2647F-2545-46CF-A942-857ACCD8F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72520" y="1412640"/>
            <a:ext cx="301788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441600" y="1412640"/>
            <a:ext cx="301788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610680" y="1412640"/>
            <a:ext cx="301788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272520" y="3840480"/>
            <a:ext cx="301788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441600" y="3840480"/>
            <a:ext cx="301788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610680" y="3840480"/>
            <a:ext cx="301788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5B724-13A5-423D-ABED-35C0B3180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272520" y="1412640"/>
            <a:ext cx="9372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328EF-905F-4E12-B580-F8972110C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72520" y="1412640"/>
            <a:ext cx="9372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D81F8-AED5-4E6B-BCBE-3729E6246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72520" y="1412640"/>
            <a:ext cx="4573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75280" y="1412640"/>
            <a:ext cx="4573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B1C55-3504-46F5-90F6-280AB39C9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F7DA9-9A71-489A-BDF5-E7F86505F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266760" y="228240"/>
            <a:ext cx="94867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DA302-7055-4C7D-9D29-DC5822AD2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72520" y="141264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75280" y="1412640"/>
            <a:ext cx="4573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72520" y="384048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90A16-8D89-4DC8-A71A-DF041680C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72520" y="1412640"/>
            <a:ext cx="4573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75280" y="141264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75280" y="384048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E1377-5B33-4B5B-893B-C88291B1B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72520" y="141264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75280" y="141264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72520" y="3840480"/>
            <a:ext cx="93726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E30A0-8E43-4DCF-8344-469E0693F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66760" y="228240"/>
            <a:ext cx="94867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Eurostil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72520" y="1412640"/>
            <a:ext cx="9372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1" marL="343080" indent="-343080">
              <a:spcBef>
                <a:spcPts val="799"/>
              </a:spcBef>
              <a:buClr>
                <a:srgbClr val="003366"/>
              </a:buClr>
              <a:buSzPct val="70000"/>
              <a:buFont typeface="Wingdings 2" charset="2"/>
              <a:buChar char="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Eurosti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Eurostil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Eurostil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Eurostil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Eurostil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320" y="6552720"/>
            <a:ext cx="2063520" cy="22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9827A-6C03-4565-96AE-34B985E7B87A}" type="datetime">
              <a:rPr b="1" lang="fr-FR" sz="1200" spc="-1" strike="noStrike">
                <a:solidFill>
                  <a:srgbClr val="000000"/>
                </a:solidFill>
                <a:latin typeface="Arial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772040" y="6552720"/>
            <a:ext cx="2063880" cy="30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74442-C617-4C73-9ACD-840728351D13}" type="slidenum">
              <a:rPr b="1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2"/>
          <p:cNvSpPr/>
          <p:nvPr/>
        </p:nvSpPr>
        <p:spPr>
          <a:xfrm>
            <a:off x="152280" y="6553080"/>
            <a:ext cx="8458200" cy="0"/>
          </a:xfrm>
          <a:prstGeom prst="line">
            <a:avLst/>
          </a:prstGeom>
          <a:ln w="9360">
            <a:solidFill>
              <a:srgbClr val="a28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13"/>
          <p:cNvSpPr/>
          <p:nvPr/>
        </p:nvSpPr>
        <p:spPr>
          <a:xfrm>
            <a:off x="9372600" y="6553080"/>
            <a:ext cx="380880" cy="0"/>
          </a:xfrm>
          <a:prstGeom prst="line">
            <a:avLst/>
          </a:prstGeom>
          <a:ln w="9360">
            <a:solidFill>
              <a:srgbClr val="a28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14" descr="logo_fai_02_cmyk copie"/>
          <p:cNvPicPr/>
          <p:nvPr/>
        </p:nvPicPr>
        <p:blipFill>
          <a:blip r:embed="rId3"/>
          <a:stretch/>
        </p:blipFill>
        <p:spPr>
          <a:xfrm>
            <a:off x="8763120" y="5865840"/>
            <a:ext cx="495360" cy="865080"/>
          </a:xfrm>
          <a:prstGeom prst="rect">
            <a:avLst/>
          </a:prstGeom>
          <a:ln w="0">
            <a:noFill/>
          </a:ln>
        </p:spPr>
      </p:pic>
      <p:sp>
        <p:nvSpPr>
          <p:cNvPr id="8" name="Espace réservé de la date 3"/>
          <p:cNvSpPr/>
          <p:nvPr/>
        </p:nvSpPr>
        <p:spPr>
          <a:xfrm>
            <a:off x="0" y="6629400"/>
            <a:ext cx="2063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JK</a:t>
            </a:r>
            <a:fld id="{60D345DE-2522-4F26-99F6-96184771471A}" type="datetime">
              <a:rPr b="1" lang="fr-FR" sz="1200" spc="-1" strike="noStrike">
                <a:solidFill>
                  <a:srgbClr val="000000"/>
                </a:solidFill>
                <a:latin typeface="Arial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logo_fai_02_cmyk copie"/>
          <p:cNvPicPr/>
          <p:nvPr/>
        </p:nvPicPr>
        <p:blipFill>
          <a:blip r:embed="rId2"/>
          <a:stretch/>
        </p:blipFill>
        <p:spPr>
          <a:xfrm>
            <a:off x="992160" y="333360"/>
            <a:ext cx="1341360" cy="215892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72520" y="4878000"/>
            <a:ext cx="9372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Eurostile"/>
              </a:rPr>
              <a:t>CIMP </a:t>
            </a:r>
            <a:br>
              <a:rPr sz="4400"/>
            </a:br>
            <a:r>
              <a:rPr b="0" lang="fr-FR" sz="2000" spc="-1" strike="noStrike">
                <a:solidFill>
                  <a:srgbClr val="000000"/>
                </a:solidFill>
                <a:latin typeface="Eurostile"/>
              </a:rPr>
              <a:t>COMMISSION INTERNATIONALE MÉDICO-PHYSIOLOGIQUE</a:t>
            </a:r>
            <a:r>
              <a:rPr b="0" lang="fr-FR" sz="4400" spc="-1" strike="noStrike">
                <a:solidFill>
                  <a:srgbClr val="000000"/>
                </a:solidFill>
                <a:latin typeface="Eurostile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pic>
        <p:nvPicPr>
          <p:cNvPr id="54" name="Picture 4" descr="logo_cimp_01_cmyk (300-15)"/>
          <p:cNvPicPr/>
          <p:nvPr/>
        </p:nvPicPr>
        <p:blipFill>
          <a:blip r:embed="rId3"/>
          <a:stretch/>
        </p:blipFill>
        <p:spPr>
          <a:xfrm>
            <a:off x="3152880" y="2421000"/>
            <a:ext cx="3132000" cy="192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72520" y="259920"/>
            <a:ext cx="943956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6000" spc="-1" strike="noStrike" u="sng">
                <a:solidFill>
                  <a:srgbClr val="000000"/>
                </a:solidFill>
                <a:uFillTx/>
                <a:latin typeface="Eurostile"/>
              </a:rPr>
              <a:t>FAI   -   CIMP</a:t>
            </a:r>
            <a:endParaRPr b="0" lang="en-US" sz="60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99800" y="2421000"/>
            <a:ext cx="937260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Eurostile"/>
              </a:rPr>
              <a:t>Physiological Stresses in Air-Sports</a:t>
            </a:r>
            <a:r>
              <a:rPr b="0" lang="de-DE" sz="2400" spc="-1" strike="noStrike">
                <a:solidFill>
                  <a:srgbClr val="000000"/>
                </a:solidFill>
                <a:latin typeface="Eurostile"/>
              </a:rPr>
              <a:t>, various Disciplines</a:t>
            </a:r>
            <a:endParaRPr b="0" lang="en-US" sz="24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Eurostile"/>
              </a:rPr>
              <a:t>First Draft Opinion 05/2014</a:t>
            </a:r>
            <a:endParaRPr b="0" lang="en-US" sz="2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Eurostile"/>
              </a:rPr>
              <a:t>FAI CIMP</a:t>
            </a:r>
            <a:endParaRPr b="0" lang="en-US" sz="2000" spc="-1" strike="noStrike">
              <a:solidFill>
                <a:srgbClr val="000000"/>
              </a:solidFill>
              <a:latin typeface="Eurosti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2520" y="260280"/>
            <a:ext cx="94870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Eurostile"/>
              </a:rPr>
              <a:t>Flight Stresses in Sports-Aviation  </a:t>
            </a:r>
            <a:r>
              <a:rPr b="0" lang="en-GB" sz="1400" spc="-1" strike="noStrike">
                <a:solidFill>
                  <a:srgbClr val="000000"/>
                </a:solidFill>
                <a:latin typeface="Eurostile"/>
              </a:rPr>
              <a:t>(FAICIMP first draft opinion 052014)</a:t>
            </a:r>
            <a:endParaRPr b="0" lang="en-US" sz="1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-360" y="907560"/>
            <a:ext cx="9906120" cy="496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0" lang="en-GB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1 =min / 5= max     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ACRO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Modeli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Ballon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GA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Glidng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ParaGl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MicroL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ParChu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Heli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i="1" lang="de-DE" sz="1400" spc="-1" strike="noStrike" u="sng">
                <a:solidFill>
                  <a:srgbClr val="000000"/>
                </a:solidFill>
                <a:uFillTx/>
                <a:latin typeface="Eurostile"/>
              </a:rPr>
              <a:t>"Stresses"</a:t>
            </a:r>
            <a:r>
              <a:rPr b="0" i="1" lang="de-DE" sz="1000" spc="-1" strike="noStrike" u="sng">
                <a:solidFill>
                  <a:srgbClr val="000000"/>
                </a:solidFill>
                <a:uFillTx/>
                <a:latin typeface="Eurostile"/>
              </a:rPr>
              <a:t>	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1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MentalStrain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NutritionStress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1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ChronoBioStrain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OrientationalStr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PrecisionCoord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6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MuscleForces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1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7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G-Forces 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1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1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8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CardioStress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1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9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ExtremeTemp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10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VisualPerform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11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HypobaricCond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1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12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Hypoxia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1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1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272520" y="691920"/>
            <a:ext cx="963324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3200" spc="-1" strike="noStrike">
                <a:solidFill>
                  <a:srgbClr val="000000"/>
                </a:solidFill>
                <a:latin typeface="Eurostile"/>
              </a:rPr>
              <a:t>Thank You</a:t>
            </a: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 for your attention !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Comments ?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Questions ?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Suggestions ?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- Approach CIMP for INFO exchange -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224160" y="1268280"/>
            <a:ext cx="5400720" cy="403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9T18:51:40Z</dcterms:created>
  <dc:creator>Stephane Desprez</dc:creator>
  <dc:description/>
  <dc:language>en-US</dc:language>
  <cp:lastModifiedBy>Fustis</cp:lastModifiedBy>
  <cp:lastPrinted>2011-05-01T20:14:46Z</cp:lastPrinted>
  <dcterms:modified xsi:type="dcterms:W3CDTF">2014-05-08T11:15:45Z</dcterms:modified>
  <cp:revision>586</cp:revision>
  <dc:subject/>
  <dc:title>Présentation PowerPoint</dc:title>
</cp:coreProperties>
</file>