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1A67-70F6-47DC-907D-1C5CA7C25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F1AD-8797-4700-B94D-DEF65DEA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1516F0-F53D-441C-8232-A4F120E52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6B47-0E28-43A7-9BCC-4DB5F7476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BFA5EF-3EAB-4332-A764-2EF90743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CB2F5E-788B-4DAE-8E2D-220771E9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232123-2C78-4A65-AB71-9A757CB8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BB9589-C915-4A09-B495-C559AA20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61B67A-FCA1-4CFC-BF13-1756214C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C31ED0-755D-4964-B134-632342EF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DB9E06-51E4-48DA-9059-DA40868A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5D3B21-425D-4A89-903C-843D95FD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8DE691-4CD5-49F7-93F1-D3208F92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446A70-A155-4BB6-89D2-40D78E893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20A9-0EE1-4D4E-8382-E2AD16277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A49F1A-8866-41A0-A7F6-376478017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34058A-DC1E-44A5-849D-BAB28D9F9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19DBBD-504C-4DA6-8920-CA0EF728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F0FB1E-9424-49BC-A84E-5E110F71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6EB2C7-CC44-4D23-BAD2-62195B9A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241BD4-A441-47DF-B6A4-A32A14E5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90EF3B-B3C3-488D-9C13-1F9ECEB2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5EED1B-6347-484B-8B70-4B0924AE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67E978-F227-472E-AB00-A210C880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E44CA3-2189-434A-B212-2235D08A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4353-B0EB-4AF2-923D-3485B7A33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BA52EC-4FF0-4600-A99D-044924E8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EB8090-DECD-4B94-99B6-B96A6D3D7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9C8832-4A48-42A7-A004-98A8F1D7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B445-612B-4B0D-B872-1E08A29B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F110-A343-4118-B3B7-72435231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CD05-65CC-421B-AD2B-DA202CD0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E902-8C55-488B-A129-C0ED6BCE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347D-1B7A-469E-8769-8ABA3FB4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C462-A412-47FE-9EEF-C13508BF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CFF4-29E5-4EB0-BF19-6D8EA21E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ABEC-0C56-4328-9E04-668B7D79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09D7-C2E6-4FC7-98C8-585B7EBD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8B29-9079-45FE-B92C-EEFADAC1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CC05-3760-4A54-9628-DEEF412DE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B963-5549-4769-BE40-80F47AA3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B6E3-6499-40B2-92B5-5787C5D8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C35350-C935-45E8-9968-5D8B2C0B5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AA172B-BD5B-410F-BF56-EC6D56DC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E22EAF-CCF0-49E0-823A-D6BAA73F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B77D-0FC5-4A8D-AD20-0EAA3087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B73CAE-9330-4ED7-88C2-3347ED89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71BA14-B7D3-4A28-9BF4-65001158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8B5689-80FD-4D1A-91AC-7B8090A9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076F58-24C0-4092-9C4B-F2724171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D7EB6A-A7D1-4579-A95B-CA6192CD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8CCE37-20D8-4A3D-A7BA-278CD8D8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9F0D94-5014-47D6-A135-1A667DAA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E18B40-6C3F-4F72-A3D6-5C31CD1F0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5FAE53-3FAA-4EC8-BCE5-D06507AD1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193573-5783-4452-87D5-6A3274D2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3697-7C93-4C3D-8ECD-D1393EF0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E96C02-F42A-4CCA-9F6D-3AF3026B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2C1937-98E7-4741-9E54-760BCF4E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AB3EF7-8F64-410B-AB34-BCF4EE1A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60F2F2-E59A-4891-B86D-1E9EB554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EAFC14-5561-40A0-B09A-9CBAF045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3D2FFC-E275-46F7-9B7B-58818970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F2D07F-C5F0-4638-AE18-9DE87620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C59040-C0B9-4A68-B27A-83EA237B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9218E1-CB08-4522-B646-C2E9FC3C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F3D1E9-83D3-4665-9ECD-9C390B523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3086-3116-4C2D-855D-35193DD6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164B22-CBB4-494B-AAD5-DA13D2358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1A28FB-3D87-464E-9730-867734FC4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D6DD97-712A-49A6-A503-1DC13386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E89608-59F1-4419-8D99-73455F2A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304431-0C46-4305-BDA8-8611AE30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DCF314-C9B6-471A-BACC-C85AFAA5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529598-8409-48CC-BE90-DE7F4A1A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8E2453-CE55-4504-B38D-6225AD89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AECC1C-42C8-43D0-8C13-1F50778B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0055D7-A47A-4B17-8399-192A83A9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26F7-B044-4F59-BAD5-F279B644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B93E4E-F900-4E6F-BF70-0F82452B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40A196-DAF1-460A-B1EB-0D5FE1C68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37BB55-6BD6-429A-8735-338AF67A8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E604-3745-4C74-956F-B52DD970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B56E-D214-4D4B-9A4D-6DCCEA16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032B-CFE1-4582-9BFE-CF871CFBBD94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645B-6B13-4D26-8DDF-A5CD9596C796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2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dt" idx="2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F582-45D9-4595-BBD2-0C40941444F6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D0EC-02D6-48C1-A786-E4FCA4EF36E8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9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91F9-B7C1-4EE9-81B2-5958520C24C3}" type="datetime3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 July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29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6443-6083-4382-A10A-90EB3EA9EB75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7D25-096E-4E89-A3CE-3984678DCB48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C639-6E1D-41D5-AF39-A3B80B1E2B1B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DD9F-DB24-47A2-9310-084A594E82EF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1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03B8-7D6A-4C05-84CA-3BFF14A20540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8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9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0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11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2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3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E622-E4E4-4541-880F-59D8775DF22F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0A6C-F8B9-494A-B0EA-08790228AE01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A509-C0F5-486E-8235-F9AA38A2D4C7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6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7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356A-68FE-413F-A28A-D2A5E8CBB865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D387-071C-4B37-8A81-90A1CCA9990B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0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09EC-A293-41F7-A42B-259FD31023AD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1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68FF-892B-42EB-9373-E0E1F8089CA6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891540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mparis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380880" y="2133720"/>
          <a:ext cx="8534520" cy="4419360"/>
        </p:xfrm>
        <a:graphic>
          <a:graphicData uri="http://schemas.openxmlformats.org/drawingml/2006/table">
            <a:tbl>
              <a:tblPr/>
              <a:tblGrid>
                <a:gridCol w="3054600"/>
                <a:gridCol w="2066760"/>
                <a:gridCol w="3413160"/>
              </a:tblGrid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New FAI Event Log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Other retail log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ee the actual scored altitu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quires lapt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lectronic 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few yes, but can’t differentiate between marks or tas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ON and PD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raud prot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limited, not tamperpro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ccurate altitude measu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most 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asy handling (preflight, during flight and at debrief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depending on competition operation proced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Instant feedback in case of logger probl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chargeable batte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Huge waste, ecologically not reason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Quality of devices, life cy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ome bad quality, max 4-5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xtensibility (add featur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trol over software functiona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st &amp; Financ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Cost per device: ±530€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Sponsor or financial partner to pay for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Rent to event organiz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Tim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066320" y="2133360"/>
            <a:ext cx="76107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09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Find a sponsor or financial partner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a first series of about 40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tart renting model in some event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be used in continental or world championshi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1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complete set of 15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Why new GPS Logger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Most current loggers are in bad condition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Improve ballooning competitions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Virtual marker drop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Fly On task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top / reduce discussions about accuracy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State of the art GPS technology (SiRF III)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Pilot can view his logged position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Logger interval 1sec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implify logger handling in scoring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Key featur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spla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position, altitude, marker statu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Keypa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enter Fly On goals or drop mark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USB-Port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use logger as navigation device for the pilot’s lapto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D-Car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store the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gitally signe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rack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erial output for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telemetr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(live tracking/scoring)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iRF III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newest GPS technology availabl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-360" y="990360"/>
            <a:ext cx="8915400" cy="990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llaboration with Flytec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5699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In April 2008 we started a collaboration with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We can use their 6020 hardware and write our own custom softwar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ardware is already in use and stabl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e device has all necessary component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Graphical display, custom keypad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Low power (30h runtime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Very good barometric altitud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Documentation, calibration warranty and support from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pic>
        <p:nvPicPr>
          <p:cNvPr id="483" name="Picture 11" descr="logger"/>
          <p:cNvPicPr/>
          <p:nvPr/>
        </p:nvPicPr>
        <p:blipFill>
          <a:blip r:embed="rId1"/>
          <a:srcRect l="-41856" t="0" r="-41856" b="0"/>
          <a:stretch/>
        </p:blipFill>
        <p:spPr>
          <a:xfrm>
            <a:off x="5867280" y="2133720"/>
            <a:ext cx="4038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9" descr="logger"/>
          <p:cNvPicPr/>
          <p:nvPr/>
        </p:nvPicPr>
        <p:blipFill>
          <a:blip r:embed="rId1"/>
          <a:stretch/>
        </p:blipFill>
        <p:spPr>
          <a:xfrm>
            <a:off x="1600200" y="2178000"/>
            <a:ext cx="2514600" cy="445140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Logger Hardwar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Line 11"/>
          <p:cNvSpPr/>
          <p:nvPr/>
        </p:nvSpPr>
        <p:spPr>
          <a:xfrm flipH="1">
            <a:off x="2819160" y="2590920"/>
            <a:ext cx="2895480" cy="142704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 flipV="1">
            <a:off x="3429000" y="4581360"/>
            <a:ext cx="2286000" cy="371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>
            <a:off x="3505320" y="3733920"/>
            <a:ext cx="2209680" cy="368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5"/>
          <p:cNvSpPr/>
          <p:nvPr/>
        </p:nvSpPr>
        <p:spPr>
          <a:xfrm flipH="1" flipV="1">
            <a:off x="2971800" y="5257800"/>
            <a:ext cx="2743200" cy="533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5729760" y="472428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5729760" y="2362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160x240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2"/>
          <p:cNvSpPr/>
          <p:nvPr/>
        </p:nvSpPr>
        <p:spPr>
          <a:xfrm>
            <a:off x="5729040" y="3505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B-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3"/>
          <p:cNvSpPr/>
          <p:nvPr/>
        </p:nvSpPr>
        <p:spPr>
          <a:xfrm>
            <a:off x="5727240" y="5562720"/>
            <a:ext cx="22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tom key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3962160" cy="245268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ustom Keypa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6" name="Line 11"/>
          <p:cNvSpPr/>
          <p:nvPr/>
        </p:nvSpPr>
        <p:spPr>
          <a:xfrm flipH="1">
            <a:off x="3733920" y="3657600"/>
            <a:ext cx="1828800" cy="152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3"/>
          <p:cNvSpPr/>
          <p:nvPr/>
        </p:nvSpPr>
        <p:spPr>
          <a:xfrm flipV="1">
            <a:off x="1371600" y="4876560"/>
            <a:ext cx="914400" cy="98100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5"/>
          <p:cNvSpPr/>
          <p:nvPr/>
        </p:nvSpPr>
        <p:spPr>
          <a:xfrm flipH="1" flipV="1">
            <a:off x="4266720" y="4724280"/>
            <a:ext cx="762120" cy="9907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8"/>
          <p:cNvSpPr/>
          <p:nvPr/>
        </p:nvSpPr>
        <p:spPr>
          <a:xfrm>
            <a:off x="782640" y="5867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Fast marker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0"/>
          <p:cNvSpPr/>
          <p:nvPr/>
        </p:nvSpPr>
        <p:spPr>
          <a:xfrm>
            <a:off x="5418000" y="342900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imple 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3"/>
          <p:cNvSpPr/>
          <p:nvPr/>
        </p:nvSpPr>
        <p:spPr>
          <a:xfrm>
            <a:off x="4736520" y="5562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fr-CH" sz="2400" spc="-1" strike="noStrike">
                <a:solidFill>
                  <a:srgbClr val="000000"/>
                </a:solidFill>
                <a:latin typeface="Century Gothic"/>
              </a:rPr>
              <a:t>asy 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goal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15400" cy="9907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Easy handl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4038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Handling is very easy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The following actions are possible: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rop a marker (markers are numbered 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eclare a goal (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List dropped markers and declared goal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Barometric altitud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5181480" y="4952880"/>
            <a:ext cx="36576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The idle screen shows all necessary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Coordinates can also be displayed in UTM and altitude in fe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8" descr="Screenshot9"/>
          <p:cNvPicPr/>
          <p:nvPr/>
        </p:nvPicPr>
        <p:blipFill>
          <a:blip r:embed="rId1"/>
          <a:stretch/>
        </p:blipFill>
        <p:spPr>
          <a:xfrm>
            <a:off x="5334120" y="1523880"/>
            <a:ext cx="2253960" cy="338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Marker drop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07" name="Picture 4" descr="Screenshot3"/>
          <p:cNvPicPr/>
          <p:nvPr/>
        </p:nvPicPr>
        <p:blipFill>
          <a:blip r:embed="rId1"/>
          <a:stretch/>
        </p:blipFill>
        <p:spPr>
          <a:xfrm>
            <a:off x="485928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8" name="Picture 5" descr="Screenshot1"/>
          <p:cNvPicPr/>
          <p:nvPr/>
        </p:nvPicPr>
        <p:blipFill>
          <a:blip r:embed="rId2"/>
          <a:stretch/>
        </p:blipFill>
        <p:spPr>
          <a:xfrm>
            <a:off x="53964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9" name="Picture 6" descr="Screenshot2"/>
          <p:cNvPicPr/>
          <p:nvPr/>
        </p:nvPicPr>
        <p:blipFill>
          <a:blip r:embed="rId3"/>
          <a:stretch/>
        </p:blipFill>
        <p:spPr>
          <a:xfrm>
            <a:off x="694836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0" name="Picture 7" descr=""/>
          <p:cNvPicPr/>
          <p:nvPr/>
        </p:nvPicPr>
        <p:blipFill>
          <a:blip r:embed="rId4"/>
          <a:srcRect l="0" t="65636" r="46904" b="0"/>
          <a:stretch/>
        </p:blipFill>
        <p:spPr>
          <a:xfrm>
            <a:off x="468360" y="5013360"/>
            <a:ext cx="1224000" cy="49068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8"/>
          <p:cNvSpPr/>
          <p:nvPr/>
        </p:nvSpPr>
        <p:spPr>
          <a:xfrm>
            <a:off x="395280" y="436572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Press „Drop Marker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9" descr="Screenshot6"/>
          <p:cNvPicPr/>
          <p:nvPr/>
        </p:nvPicPr>
        <p:blipFill>
          <a:blip r:embed="rId5"/>
          <a:stretch/>
        </p:blipFill>
        <p:spPr>
          <a:xfrm>
            <a:off x="2700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3" name="Text Box 10"/>
          <p:cNvSpPr/>
          <p:nvPr/>
        </p:nvSpPr>
        <p:spPr>
          <a:xfrm>
            <a:off x="2556000" y="4365720"/>
            <a:ext cx="187164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Select Marker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The user gets a warning if he already dropped the same marker bef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4859280" y="4365720"/>
            <a:ext cx="1603440" cy="23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3. Press ok to drop ma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You can wait here as long as you want until your are closest to the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6948360" y="4365720"/>
            <a:ext cx="16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. The idle screen shows the dropped ma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13"/>
          <p:cNvSpPr/>
          <p:nvPr/>
        </p:nvSpPr>
        <p:spPr>
          <a:xfrm>
            <a:off x="6804000" y="3284640"/>
            <a:ext cx="576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Goal declar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18" name="Picture 4" descr="Screenshot4"/>
          <p:cNvPicPr/>
          <p:nvPr/>
        </p:nvPicPr>
        <p:blipFill>
          <a:blip r:embed="rId1"/>
          <a:stretch/>
        </p:blipFill>
        <p:spPr>
          <a:xfrm>
            <a:off x="380988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Picture 5" descr="Screenshot2"/>
          <p:cNvPicPr/>
          <p:nvPr/>
        </p:nvPicPr>
        <p:blipFill>
          <a:blip r:embed="rId2"/>
          <a:stretch/>
        </p:blipFill>
        <p:spPr>
          <a:xfrm>
            <a:off x="125892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0" name="Text Box 6"/>
          <p:cNvSpPr/>
          <p:nvPr/>
        </p:nvSpPr>
        <p:spPr>
          <a:xfrm>
            <a:off x="3693960" y="4437000"/>
            <a:ext cx="224964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Enter goal coordina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The logger accepts either goal number or coordinates. Altitude is opt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1116000" y="4437000"/>
            <a:ext cx="223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Select „Declare Goal“ and select the go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6273720" y="4456080"/>
            <a:ext cx="256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A list of goals (and markers) can be dis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11" descr="Screenshot7"/>
          <p:cNvPicPr/>
          <p:nvPr/>
        </p:nvPicPr>
        <p:blipFill>
          <a:blip r:embed="rId3"/>
          <a:stretch/>
        </p:blipFill>
        <p:spPr>
          <a:xfrm>
            <a:off x="6372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4" name="AutoShape 13"/>
          <p:cNvSpPr/>
          <p:nvPr/>
        </p:nvSpPr>
        <p:spPr>
          <a:xfrm>
            <a:off x="6516720" y="981000"/>
            <a:ext cx="2232000" cy="1008000"/>
          </a:xfrm>
          <a:prstGeom prst="wedgeRectCallout">
            <a:avLst>
              <a:gd name="adj1" fmla="val -38476"/>
              <a:gd name="adj2" fmla="val 9614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The declaration is stored together with a timestam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55:07Z</dcterms:modified>
  <cp:revision>77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